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universidad o centro de enseñanza donde se imparte el ciclo corto de formación profesional de grado superi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7F36E4-7B2F-4B0B-ACCF-1E58F5C11C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50A5-9791-4101-9C20-1D6DD3926F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D32F-0723-4777-9AC9-DE330942AC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1941-91A7-4EF9-956C-86A86019D6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2FC9-76FF-41F4-9DB2-8C1B5CF5AC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169C-00A7-42F8-BC6F-7CB1B030CA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40F0-0212-4F59-8BB7-FBC3997CCE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Procedimiento de la Comis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gestionarán con arreglo al «procedimiento de la Comisión» las siguientes acciones, respecto de las cuales 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puestas de proyectos se presentan a la Comisión para que esta adopte las decisiones de selecci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) proyectos unilaterales y nacionales, según el artículo 5, apartado 1, letra d), salvo los financiados 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rreglo al artículo 33, apartado 4, letra a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) proyectos y redes multilaterales, según el artículo 5, apartado 1, letra e); observación y análisis de políticas y sistemas en el ámbito del aprendizaje permanente, elaboración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aterial de referencia, incluidos encuestas, estadísticas, análisis e indicadores, y medidas para apoyar 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parencia y el reconocimiento de las cualificaciones y de los estudios previos, según el artículo 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artado 1, letra f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) subvenciones de funcionamiento, según el artículo 5, apartado 1, letra g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) otras iniciativas destinadas a promover los objetivos del programa de aprendizaje permanente, según 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rtículo 5, apartado 1, letra h) («las medidas de acompañamiento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B73C-EF5F-4272-BBFE-D736D25FE0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4D1B-AC85-4905-9C40-0277866431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1227-7510-4D7C-B90D-A341796A2F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9B82-91C8-4DAA-BADE-B9F5309197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APEE"/>
          <p:cNvPicPr/>
          <p:nvPr/>
        </p:nvPicPr>
        <p:blipFill>
          <a:blip r:embed="rId2"/>
          <a:stretch/>
        </p:blipFill>
        <p:spPr>
          <a:xfrm>
            <a:off x="5651640" y="6308640"/>
            <a:ext cx="1218960" cy="2620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3"/>
          <p:cNvSpPr/>
          <p:nvPr/>
        </p:nvSpPr>
        <p:spPr>
          <a:xfrm rot="10800000">
            <a:off x="1217520" y="1797840"/>
            <a:ext cx="7315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116000" y="6165720"/>
            <a:ext cx="1800360" cy="4892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rganismo Autónomo Programas Educativos Europe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SIÓN ERASM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7164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7524720" y="6237360"/>
            <a:ext cx="1305000" cy="371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3635280" y="5842080"/>
            <a:ext cx="1008000" cy="892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2 Subtítulo"/>
          <p:cNvSpPr/>
          <p:nvPr/>
        </p:nvSpPr>
        <p:spPr>
          <a:xfrm>
            <a:off x="971640" y="1413000"/>
            <a:ext cx="784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CONFERENCIA NACION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TEMÁTICA 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FERIA DE VALORIZACIÓ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DEL PROGR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DE APRENDIZAJE PERMAN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2 Subtítulo"/>
          <p:cNvSpPr/>
          <p:nvPr/>
        </p:nvSpPr>
        <p:spPr>
          <a:xfrm>
            <a:off x="4211640" y="5157720"/>
            <a:ext cx="42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adrid, 12 diciembre 20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469280" cy="13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OVI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NECESIDADES ESPECIALES (DISCAPACIDAD GRAV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16000" y="2060640"/>
          <a:ext cx="7703640" cy="3456000"/>
        </p:xfrm>
        <a:graphic>
          <a:graphicData uri="http://schemas.openxmlformats.org/drawingml/2006/table">
            <a:tbl>
              <a:tblPr/>
              <a:tblGrid>
                <a:gridCol w="6191640"/>
                <a:gridCol w="1512000"/>
              </a:tblGrid>
              <a:tr h="28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uración de la esta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Un sem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4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os sem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8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Grado de discapacidad que figura en el certificado médico of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el 40 al 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4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el 50 al 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7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Más del 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1.5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Necesidades específ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motora (silla de rue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1.0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motora miembros inferi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6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vis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6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audi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4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Organización de IP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áximo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5.50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Gastos de viaj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áximo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75%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de los gastos re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Costes de alojamiento, manutención, seguro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, etc.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Profesor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 día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2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 semana (7 días)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84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ía adicional (2ª semana)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48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emana adicional (3ª-6ª semana)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34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00"/>
                </a:solidFill>
                <a:uFillTx/>
                <a:latin typeface="Verdana"/>
              </a:rPr>
              <a:t>Los días no lectivos</a:t>
            </a: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 no se computarán dentro del requisito mínimo de 10 días de trabajo relacionados con el IP. Sin embargo, </a:t>
            </a:r>
            <a:r>
              <a:rPr b="0" lang="en-US" sz="1200" spc="-1" strike="noStrike" u="sng">
                <a:solidFill>
                  <a:srgbClr val="006600"/>
                </a:solidFill>
                <a:uFillTx/>
                <a:latin typeface="Verdana"/>
              </a:rPr>
              <a:t>se computarán para el cálculo de gastos de manutención</a:t>
            </a: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Estudiant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0 días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49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042920" y="260280"/>
            <a:ext cx="684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 PROGRAMAS INTENSIVOS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Cuantía máxima para la organización de los curs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6.020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€/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16000" y="549360"/>
            <a:ext cx="684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 ORGANIZACIÓN DE CURSOS EIL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El nuevo reglamento financiero de la UE  modifica el importe de las subvenciones que requieran analizar la capacidad financiera para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importes iguales o superiores a 60.000 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116000" y="549360"/>
            <a:ext cx="684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Verdana"/>
              </a:rPr>
              <a:t>CAPACIDAD FINANC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Título"/>
          <p:cNvSpPr/>
          <p:nvPr/>
        </p:nvSpPr>
        <p:spPr>
          <a:xfrm>
            <a:off x="1116000" y="112536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2 Subtítulo"/>
          <p:cNvSpPr/>
          <p:nvPr/>
        </p:nvSpPr>
        <p:spPr>
          <a:xfrm>
            <a:off x="1042920" y="2852640"/>
            <a:ext cx="748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Verdana"/>
              </a:rPr>
              <a:t>ORGANISMO AUTONO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Verdana"/>
              </a:rPr>
              <a:t>PROGRAMAS EDUCA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Verdana"/>
              </a:rPr>
              <a:t>EUROPEOS (OAPE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Verdana"/>
              </a:rPr>
              <a:t>DIVISIÓN ERASM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Gustavo Fernández Balbuena 13 – 28002 MADR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Tlf: 91 550 67 34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www.oapee.es / erasmus@oapee.es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2 Subtítulo"/>
          <p:cNvSpPr/>
          <p:nvPr/>
        </p:nvSpPr>
        <p:spPr>
          <a:xfrm>
            <a:off x="1042920" y="2492280"/>
            <a:ext cx="7850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NOVEDAD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ONVOCATORIA 201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04292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PUBLICACIÓN CONVOCATO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EUROPEA DE PROPUESTAS  PAP 20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1341360"/>
            <a:ext cx="7274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Convocatoria Europea de propuestas PAP 2013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3300"/>
                </a:solidFill>
                <a:latin typeface="Verdana"/>
              </a:rPr>
              <a:t>http://ec.europa.eu/education/llp/doc848_en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4600"/>
                </a:solidFill>
                <a:latin typeface="Verdana"/>
                <a:ea typeface="Times New Roman"/>
              </a:rPr>
              <a:t>Documentos en español</a:t>
            </a:r>
            <a:r>
              <a:rPr b="0" lang="es-ES" sz="1800" spc="-1" strike="noStrike">
                <a:solidFill>
                  <a:srgbClr val="0046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Anuncio oficial de la convocatoria (Diario Oficial de la Unión Europea, 9/8/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Prioridades estratég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4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Convocatoria Nacional de propuestas 2013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00"/>
                </a:solidFill>
                <a:latin typeface="Verdana"/>
                <a:ea typeface="Times New Roman"/>
              </a:rPr>
              <a:t>http://www.oapee.es/dctm/weboapee/convocatoria/2013/convocatoria-nacional-20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Anexos a la convocato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71640" y="47628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PRESUPUES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CONVOCATORIA 201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284560"/>
            <a:ext cx="785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recimiento global del presupuesto de la Unión Europea para el programa Erasmu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,36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51.032.000,00 €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[2012-13]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51.730.000,00 €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[2013-1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573360"/>
            <a:ext cx="1008000" cy="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42920" y="1341000"/>
            <a:ext cx="777240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1 de febrero de 2013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Organización de Cursos Intensivos de Lengua Erasmus (EIL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8 de marzo de 2013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Movilidad (SM, 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Certificado de prácticas para consor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Programas Intensivos (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26 de abril de 20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1ª fase ayuda adicional: movilidad con necesidade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20 de diciembre de 20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2ª fase ayuda adicional: movilidad con necesidade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30 días naturales antes de la vis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Visitas Preparatorias (P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42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PLAZOS DE PRESENTA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DE SOLICITU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27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Los 27 estados miembros de la 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aíses de la AELC y del EEE: Islandia, Liechtenstein, Noru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aíses candidatos: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Croacia, Turqu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ui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AÍSES PARTICIPA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921800" cy="35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Las solicitudes de IP seleccionadas en 2012 y 2013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no podrán solicitar una renovación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después de 201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4292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PROGRAMAS INTENSIVOS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25892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42920" y="1628280"/>
            <a:ext cx="7561440" cy="358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Las visitas preparatorias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destinadas a establecer nuevos acuerdos interinstitucionales (no renovaciones) relacionados con actividades de movilidad de estudiantes y/o personal o a preparar prácticas de estudiantes Erasmus, programas intensivos Erasmus, redes Erasmus, proyectos multilaterales Erasmus o medidas de acompañamiento Erasmus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han de realizarse antes de que finalice el plazo de solicitud de las correspondientes medidas al amparo de la convocatoria de propuestas de 201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164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VISITAS PREPARATOR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25892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40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 MOV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755640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MOVILIDAD DE ESTUDIANTES (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Estudios (SMS): 200 € 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Prácticas (SMP): 400 € m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EILC: hasta 450 € curs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MOVILIDAD DE PERSONAL (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Viaje, alojamiento y manutención: 120€ x día hasta 600 € (5 dí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9:44:36Z</dcterms:created>
  <dc:creator>TERESA CHAPARRO</dc:creator>
  <dc:description/>
  <dc:language>en-US</dc:language>
  <cp:lastModifiedBy>mteresa.chaparro</cp:lastModifiedBy>
  <dcterms:modified xsi:type="dcterms:W3CDTF">2012-12-07T13:42:51Z</dcterms:modified>
  <cp:revision>859</cp:revision>
  <dc:subject/>
  <dc:title>PROGRAMA ERASMUS</dc:title>
</cp:coreProperties>
</file>