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22.png" ContentType="image/png"/>
  <Override PartName="/ppt/media/image5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907588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70800" cy="9871200"/>
          </a:xfrm>
          <a:prstGeom prst="rect">
            <a:avLst/>
          </a:prstGeom>
          <a:solidFill>
            <a:srgbClr val="2a5657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7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659880" y="739800"/>
            <a:ext cx="534996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Helvetica Light"/>
              </a:rPr>
              <a:t>Click to move the slide</a:t>
            </a: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88480" y="4689000"/>
            <a:ext cx="48913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72e2d"/>
                </a:solidFill>
                <a:latin typeface="Noteworthy Bold"/>
              </a:rPr>
              <a:t>Click to edit the notes format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660240" y="73980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88480" y="4689000"/>
            <a:ext cx="48913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572e2d"/>
                </a:solidFill>
                <a:latin typeface="Noteworthy Bold"/>
              </a:rPr>
              <a:t>Es previsible que para el año 2020 sólo el 15% de puestos de trabajo requieran una baja cualificación, frente la 50% de nivel medio de cualificación y el 35% con alto nivel de cualificación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660240" y="73980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88480" y="4689000"/>
            <a:ext cx="48913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572e2d"/>
                </a:solidFill>
                <a:latin typeface="Noteworthy Bold"/>
              </a:rPr>
              <a:t>La Europa de los 27, en su conjunto, se aproxima bastante a esas previsiones para el año 2020, pero España no. Es necesario aumentar el número de personas con niveles medios de cualificación, centrándonos en la FP de grado Medio, y hemos de hacerlo fundamentalmente a expensas de la población con baja cualificación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660240" y="739800"/>
            <a:ext cx="5349960" cy="3703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89000"/>
            <a:ext cx="48913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572e2d"/>
                </a:solidFill>
                <a:latin typeface="Noteworthy Bold"/>
              </a:rPr>
              <a:t>Demanda de FP en España respecto a Europa, comparándola con el Bachillerato o equivalente. Datos Eurostat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572e2d"/>
                </a:solidFill>
                <a:latin typeface="Noteworthy Bold"/>
              </a:rPr>
              <a:t>Aumentar el número de alumnos que accede a F.P. es una necesidad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572e2d"/>
                </a:solidFill>
                <a:latin typeface="Noteworthy Bold"/>
              </a:rPr>
              <a:t>Actualmente estamos en un 41 % frente 58% en el que se encuentra la media de la U.E.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  <a:p>
            <a:pPr indent="0">
              <a:lnSpc>
                <a:spcPts val="34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572e2d"/>
                </a:solidFill>
                <a:latin typeface="Noteworthy Bold"/>
              </a:rPr>
              <a:t>Dar a conocer la F.P. mediante un adecuado sistema de promoción,  información y orientación dirigido a Padres, Profesores, Alumnos y Empresarios es un reto importante en el que todos estamos implicados</a:t>
            </a:r>
            <a:endParaRPr b="0" lang="en-US" sz="2400" spc="-1" strike="noStrike">
              <a:solidFill>
                <a:srgbClr val="572e2d"/>
              </a:solidFill>
              <a:latin typeface="Noteworthy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66600" y="178920"/>
            <a:ext cx="797220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66600" y="1946160"/>
            <a:ext cx="797220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66600" y="4046040"/>
            <a:ext cx="797220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66600" y="178920"/>
            <a:ext cx="797220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66600" y="1946160"/>
            <a:ext cx="389016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520" y="1946160"/>
            <a:ext cx="389016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66600" y="4046040"/>
            <a:ext cx="389016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51520" y="4046040"/>
            <a:ext cx="389016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66600" y="178920"/>
            <a:ext cx="797220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66600" y="1946160"/>
            <a:ext cx="256680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2280" y="1946160"/>
            <a:ext cx="256680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946160"/>
            <a:ext cx="256680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66600" y="4046040"/>
            <a:ext cx="256680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2280" y="4046040"/>
            <a:ext cx="256680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046040"/>
            <a:ext cx="256680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66600" y="178920"/>
            <a:ext cx="797220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66600" y="1946160"/>
            <a:ext cx="79722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66600" y="178920"/>
            <a:ext cx="797220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66600" y="1946160"/>
            <a:ext cx="797220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6600" y="178920"/>
            <a:ext cx="797220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66600" y="1946160"/>
            <a:ext cx="389016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51520" y="1946160"/>
            <a:ext cx="389016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6600" y="178920"/>
            <a:ext cx="797220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66600" y="178920"/>
            <a:ext cx="797220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87"/>
              </a:spcBef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6600" y="178920"/>
            <a:ext cx="797220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66600" y="1946160"/>
            <a:ext cx="389016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1520" y="1946160"/>
            <a:ext cx="389016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66600" y="4046040"/>
            <a:ext cx="389016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6600" y="178920"/>
            <a:ext cx="797220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6600" y="1946160"/>
            <a:ext cx="389016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520" y="1946160"/>
            <a:ext cx="389016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51520" y="4046040"/>
            <a:ext cx="389016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66600" y="178920"/>
            <a:ext cx="797220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66600" y="1946160"/>
            <a:ext cx="389016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520" y="1946160"/>
            <a:ext cx="389016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66600" y="4046040"/>
            <a:ext cx="7972200" cy="1917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marL="343080"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6600" y="178920"/>
            <a:ext cx="797220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6600" y="1946160"/>
            <a:ext cx="797220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74000"/>
          </a:bodyPr>
          <a:p>
            <a:pPr marL="253800" indent="0">
              <a:spcBef>
                <a:spcPts val="3087"/>
              </a:spcBef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1" marL="253800" indent="-253800">
              <a:spcBef>
                <a:spcPts val="3087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2" marL="253800" indent="-253800">
              <a:spcBef>
                <a:spcPts val="3087"/>
              </a:spcBef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3" marL="253800" indent="-253800">
              <a:spcBef>
                <a:spcPts val="3087"/>
              </a:spcBef>
              <a:buClr>
                <a:srgbClr val="000000"/>
              </a:buClr>
              <a:buFont typeface="Helvetica Light"/>
              <a:buChar char="–"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4" marL="253800" indent="-253800">
              <a:spcBef>
                <a:spcPts val="3087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5" marL="253800" indent="-253800">
              <a:spcBef>
                <a:spcPts val="3087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  <a:p>
            <a:pPr lvl="6" marL="253800" indent="-253800">
              <a:spcBef>
                <a:spcPts val="3087"/>
              </a:spcBef>
              <a:buClr>
                <a:srgbClr val="000000"/>
              </a:buClr>
              <a:buFont typeface="Helvetica Light"/>
              <a:buChar char="»"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2" name="Picture 4" descr="image"/>
          <p:cNvPicPr/>
          <p:nvPr/>
        </p:nvPicPr>
        <p:blipFill>
          <a:blip r:embed="rId2"/>
          <a:srcRect l="6277" t="0" r="42427" b="0"/>
          <a:stretch/>
        </p:blipFill>
        <p:spPr>
          <a:xfrm>
            <a:off x="0" y="0"/>
            <a:ext cx="2851200" cy="74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image"/>
          <p:cNvPicPr/>
          <p:nvPr/>
        </p:nvPicPr>
        <p:blipFill>
          <a:blip r:embed="rId1"/>
          <a:srcRect l="6277" t="0" r="42427" b="0"/>
          <a:stretch/>
        </p:blipFill>
        <p:spPr>
          <a:xfrm>
            <a:off x="0" y="0"/>
            <a:ext cx="2851200" cy="749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image"/>
          <p:cNvPicPr/>
          <p:nvPr/>
        </p:nvPicPr>
        <p:blipFill>
          <a:blip r:embed="rId2"/>
          <a:stretch/>
        </p:blipFill>
        <p:spPr>
          <a:xfrm>
            <a:off x="7012080" y="-30240"/>
            <a:ext cx="3044880" cy="12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 rot="20826600">
            <a:off x="0" y="1757520"/>
            <a:ext cx="8096400" cy="126180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" name="Picture 4" descr="image"/>
          <p:cNvPicPr/>
          <p:nvPr/>
        </p:nvPicPr>
        <p:blipFill>
          <a:blip r:embed="rId4"/>
          <a:stretch/>
        </p:blipFill>
        <p:spPr>
          <a:xfrm>
            <a:off x="4583160" y="2554200"/>
            <a:ext cx="5548320" cy="3786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mage"/>
          <p:cNvPicPr/>
          <p:nvPr/>
        </p:nvPicPr>
        <p:blipFill>
          <a:blip r:embed="rId5"/>
          <a:stretch/>
        </p:blipFill>
        <p:spPr>
          <a:xfrm>
            <a:off x="322200" y="5803920"/>
            <a:ext cx="7178760" cy="9874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6"/>
          <p:cNvSpPr/>
          <p:nvPr/>
        </p:nvSpPr>
        <p:spPr>
          <a:xfrm>
            <a:off x="428760" y="5153040"/>
            <a:ext cx="3743280" cy="15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Noviembre 2012</a:t>
            </a:r>
            <a:endParaRPr b="0" lang="en-US" sz="1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1"/>
          <p:cNvGrpSpPr/>
          <p:nvPr/>
        </p:nvGrpSpPr>
        <p:grpSpPr>
          <a:xfrm>
            <a:off x="1066680" y="1353960"/>
            <a:ext cx="7937280" cy="5168880"/>
            <a:chOff x="1066680" y="1353960"/>
            <a:chExt cx="7937280" cy="5168880"/>
          </a:xfrm>
        </p:grpSpPr>
        <p:pic>
          <p:nvPicPr>
            <p:cNvPr id="73" name="Picture 2" descr="asset"/>
            <p:cNvPicPr/>
            <p:nvPr/>
          </p:nvPicPr>
          <p:blipFill>
            <a:blip r:embed="rId1"/>
            <a:srcRect l="16004" t="16573" r="3219" b="26420"/>
            <a:stretch/>
          </p:blipFill>
          <p:spPr>
            <a:xfrm>
              <a:off x="1160640" y="1413720"/>
              <a:ext cx="7748640" cy="494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" descr=""/>
            <p:cNvPicPr/>
            <p:nvPr/>
          </p:nvPicPr>
          <p:blipFill>
            <a:blip r:embed="rId2"/>
            <a:stretch/>
          </p:blipFill>
          <p:spPr>
            <a:xfrm>
              <a:off x="1066680" y="1353960"/>
              <a:ext cx="7937280" cy="516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4" descr="image"/>
          <p:cNvPicPr/>
          <p:nvPr/>
        </p:nvPicPr>
        <p:blipFill>
          <a:blip r:embed="rId3"/>
          <a:srcRect l="6277" t="0" r="42427" b="0"/>
          <a:stretch/>
        </p:blipFill>
        <p:spPr>
          <a:xfrm>
            <a:off x="0" y="0"/>
            <a:ext cx="285120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5"/>
          <p:cNvGraphicFramePr/>
          <p:nvPr/>
        </p:nvGraphicFramePr>
        <p:xfrm>
          <a:off x="6773760" y="1844640"/>
          <a:ext cx="1944720" cy="145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73760" y="1844640"/>
                    <a:ext cx="194472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WordArt 7"/>
          <p:cNvSpPr txBox="1"/>
          <p:nvPr/>
        </p:nvSpPr>
        <p:spPr>
          <a:xfrm>
            <a:off x="3297240" y="333360"/>
            <a:ext cx="506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Principales ventajas</a:t>
            </a:r>
            <a:endParaRPr b="0" lang="en-US" sz="27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15440" y="836280"/>
            <a:ext cx="8659800" cy="12970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indent="0">
              <a:lnSpc>
                <a:spcPct val="8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elvetica Light"/>
              </a:rPr>
              <a:t>La estructura empresarial española está basada fundamentalmente en la pequeña y mediana empresa. Según los datos del DIRECTORIO CENTRAL DE EMPRESAS – Instituto Nacional de Estadística (2012) </a:t>
            </a:r>
            <a:r>
              <a:rPr b="1" lang="es-ES" sz="1800" spc="-1" strike="noStrike">
                <a:solidFill>
                  <a:srgbClr val="990000"/>
                </a:solidFill>
                <a:latin typeface="Helvetica Light"/>
              </a:rPr>
              <a:t>el número total de empresas es de </a:t>
            </a:r>
            <a:r>
              <a:rPr b="1" lang="es-ES" sz="1800" spc="-1" strike="noStrike">
                <a:solidFill>
                  <a:srgbClr val="000099"/>
                </a:solidFill>
                <a:latin typeface="Helvetica Light"/>
              </a:rPr>
              <a:t>3.199.617</a:t>
            </a:r>
            <a:r>
              <a:rPr b="1" lang="es-ES" sz="1800" spc="-1" strike="noStrike">
                <a:solidFill>
                  <a:srgbClr val="990000"/>
                </a:solidFill>
                <a:latin typeface="Helvetica Light"/>
              </a:rPr>
              <a:t>, de las cuales  </a:t>
            </a:r>
            <a:r>
              <a:rPr b="1" lang="es-ES" sz="1800" spc="-1" strike="noStrike">
                <a:solidFill>
                  <a:srgbClr val="000099"/>
                </a:solidFill>
                <a:latin typeface="Helvetica Light"/>
              </a:rPr>
              <a:t>3.175.560</a:t>
            </a:r>
            <a:r>
              <a:rPr b="1" lang="es-ES" sz="1800" spc="-1" strike="noStrike">
                <a:solidFill>
                  <a:srgbClr val="990000"/>
                </a:solidFill>
                <a:latin typeface="Helvetica Light"/>
              </a:rPr>
              <a:t> (el </a:t>
            </a:r>
            <a:r>
              <a:rPr b="1" lang="es-ES" sz="1800" spc="-1" strike="noStrike">
                <a:solidFill>
                  <a:srgbClr val="000099"/>
                </a:solidFill>
                <a:latin typeface="Helvetica Light"/>
              </a:rPr>
              <a:t>99,24%)</a:t>
            </a:r>
            <a:r>
              <a:rPr b="1" lang="es-ES" sz="1800" spc="-1" strike="noStrike">
                <a:solidFill>
                  <a:srgbClr val="990000"/>
                </a:solidFill>
                <a:latin typeface="Helvetica Light"/>
              </a:rPr>
              <a:t> tiene menos de </a:t>
            </a:r>
            <a:r>
              <a:rPr b="1" lang="es-ES" sz="1800" spc="-1" strike="noStrike">
                <a:solidFill>
                  <a:srgbClr val="000099"/>
                </a:solidFill>
                <a:latin typeface="Helvetica Light"/>
              </a:rPr>
              <a:t>50</a:t>
            </a:r>
            <a:r>
              <a:rPr b="1" lang="es-ES" sz="1800" spc="-1" strike="noStrike">
                <a:solidFill>
                  <a:srgbClr val="990000"/>
                </a:solidFill>
                <a:latin typeface="Helvetica Light"/>
              </a:rPr>
              <a:t> empleados.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graphicFrame>
        <p:nvGraphicFramePr>
          <p:cNvPr id="80" name="Object 3"/>
          <p:cNvGraphicFramePr/>
          <p:nvPr/>
        </p:nvGraphicFramePr>
        <p:xfrm>
          <a:off x="0" y="2060640"/>
          <a:ext cx="8915400" cy="46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891540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66600" y="1606680"/>
            <a:ext cx="7972200" cy="4657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indent="0">
              <a:lnSpc>
                <a:spcPct val="8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Helvetica Light"/>
              </a:rPr>
              <a:t>Para las empresas:</a:t>
            </a:r>
            <a:endParaRPr b="0" lang="en-US" sz="2700" spc="-1" strike="noStrike">
              <a:solidFill>
                <a:srgbClr val="000000"/>
              </a:solidFill>
              <a:latin typeface="Helvetica Light"/>
            </a:endParaRPr>
          </a:p>
          <a:p>
            <a:pPr lvl="1" marL="252360" indent="0">
              <a:lnSpc>
                <a:spcPct val="8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Helvetica Light"/>
              </a:rPr>
              <a:t>La empresa </a:t>
            </a:r>
            <a:r>
              <a:rPr b="1" lang="es-ES" sz="1600" spc="-1" strike="noStrike">
                <a:solidFill>
                  <a:srgbClr val="cc3300"/>
                </a:solidFill>
                <a:latin typeface="Helvetica Light"/>
              </a:rPr>
              <a:t>se implica más en el diseño y en la oferta de los programas formativos,</a:t>
            </a:r>
            <a:r>
              <a:rPr b="0" lang="es-ES" sz="1600" spc="-1" strike="noStrike">
                <a:solidFill>
                  <a:srgbClr val="000000"/>
                </a:solidFill>
                <a:latin typeface="Helvetica Light"/>
              </a:rPr>
              <a:t> lo que </a:t>
            </a:r>
            <a:r>
              <a:rPr b="1" lang="es-ES" sz="1600" spc="-1" strike="noStrike">
                <a:solidFill>
                  <a:srgbClr val="0000ff"/>
                </a:solidFill>
                <a:latin typeface="Helvetica Light"/>
              </a:rPr>
              <a:t>permitirá que la formación que reciba el alumno se ajuste mejor a los requerimientos del perfil profesional que deberá desempeñar en el futuro</a:t>
            </a:r>
            <a:r>
              <a:rPr b="0" lang="es-ES" sz="1600" spc="-1" strike="noStrike">
                <a:solidFill>
                  <a:srgbClr val="cc3300"/>
                </a:solidFill>
                <a:latin typeface="Helvetica Light"/>
              </a:rPr>
              <a:t>.</a:t>
            </a:r>
            <a:r>
              <a:rPr b="1" lang="es-ES" sz="1600" spc="-1" strike="noStrike">
                <a:solidFill>
                  <a:srgbClr val="000000"/>
                </a:solidFill>
                <a:latin typeface="Helvetica Light"/>
              </a:rPr>
              <a:t> Esto optimiza la inversión en educación, y reduce los costes de formación de la empresa.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 lvl="1" marL="252360" indent="0">
              <a:lnSpc>
                <a:spcPct val="8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Helvetica Light"/>
              </a:rPr>
              <a:t>La empresa </a:t>
            </a:r>
            <a:r>
              <a:rPr b="1" lang="es-ES" sz="1600" spc="-1" strike="noStrike">
                <a:solidFill>
                  <a:srgbClr val="1b8518"/>
                </a:solidFill>
                <a:latin typeface="Helvetica Light"/>
              </a:rPr>
              <a:t>puede seleccionar de entre los alumnos formados aquellos que en el futuro pasarán a integrar sus plantillas</a:t>
            </a:r>
            <a:r>
              <a:rPr b="0" lang="es-ES" sz="1600" spc="-1" strike="noStrike">
                <a:solidFill>
                  <a:srgbClr val="000000"/>
                </a:solidFill>
                <a:latin typeface="Helvetica Light"/>
              </a:rPr>
              <a:t>, estableciéndose así un procedimiento que garantiza enormemente la elección de recursos humanos para las empresas.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 lvl="1" marL="252360" indent="0">
              <a:lnSpc>
                <a:spcPct val="8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Helvetica Light"/>
              </a:rPr>
              <a:t>La empresa, </a:t>
            </a:r>
            <a:r>
              <a:rPr b="1" lang="es-ES" sz="1600" spc="-1" strike="noStrike">
                <a:solidFill>
                  <a:srgbClr val="cc3300"/>
                </a:solidFill>
                <a:latin typeface="Helvetica Light"/>
              </a:rPr>
              <a:t>al contar con la colaboración de profesores especialistas, pude beneficiarse del conocimiento explícito de estos profesores y de los recursos tecnológicos que pueden tener los centros educativos</a:t>
            </a:r>
            <a:r>
              <a:rPr b="0" lang="es-ES" sz="1600" spc="-1" strike="noStrike">
                <a:solidFill>
                  <a:srgbClr val="000000"/>
                </a:solidFill>
                <a:latin typeface="Helvetica Light"/>
              </a:rPr>
              <a:t> con los que colaboran, especialmente cuando se trata de pequeñas y medianas empresas.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893880" y="1252440"/>
            <a:ext cx="840888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Beneficios de la Formación Profesional Dual</a:t>
            </a:r>
            <a:endParaRPr b="0" lang="en-US" sz="27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66600" y="1946160"/>
            <a:ext cx="797220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indent="0">
              <a:lnSpc>
                <a:spcPct val="9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Helvetica Light"/>
              </a:rPr>
              <a:t>Para el centro educativo: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lvl="1" marL="252360" indent="0">
              <a:lnSpc>
                <a:spcPct val="9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2500" spc="-1" strike="noStrike">
                <a:solidFill>
                  <a:srgbClr val="cc3300"/>
                </a:solidFill>
                <a:latin typeface="Helvetica Light"/>
              </a:rPr>
              <a:t>La colaboración del profesorado con las empresas permite la actualización de conocimientos</a:t>
            </a:r>
            <a:r>
              <a:rPr b="0" lang="es-ES" sz="2400" spc="-1" strike="noStrike">
                <a:solidFill>
                  <a:srgbClr val="000000"/>
                </a:solidFill>
                <a:latin typeface="Helvetica Light"/>
              </a:rPr>
              <a:t> y sirve, además, como </a:t>
            </a:r>
            <a:r>
              <a:rPr b="1" lang="es-ES" sz="2500" spc="-1" strike="noStrike">
                <a:solidFill>
                  <a:srgbClr val="1b8518"/>
                </a:solidFill>
                <a:latin typeface="Helvetica Light"/>
              </a:rPr>
              <a:t>centinela en los cambios que cada vez más rápidamente se producen en los procesos productivos, pudiendo incorporarlos de forma rápida y efectiva en sus programaciones</a:t>
            </a:r>
            <a:r>
              <a:rPr b="0" lang="es-ES" sz="2400" spc="-1" strike="noStrike">
                <a:solidFill>
                  <a:srgbClr val="000000"/>
                </a:solidFill>
                <a:latin typeface="Helvetica Light"/>
              </a:rPr>
              <a:t>, sin perjuicio de la responsabilidad de las administraciones en la actualización de los currículos.</a:t>
            </a:r>
            <a:endParaRPr b="0" lang="en-US" sz="2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66600" y="1946160"/>
            <a:ext cx="797220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indent="0">
              <a:lnSpc>
                <a:spcPct val="8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Helvetica Light"/>
              </a:rPr>
              <a:t>Para el alumnado: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lvl="1" marL="252360" indent="0">
              <a:lnSpc>
                <a:spcPct val="8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elvetica Light"/>
              </a:rPr>
              <a:t>El desarrollo de programas duales </a:t>
            </a:r>
            <a:r>
              <a:rPr b="1" lang="es-ES" sz="1800" spc="-1" strike="noStrike">
                <a:solidFill>
                  <a:srgbClr val="1b8518"/>
                </a:solidFill>
                <a:latin typeface="Helvetica Light"/>
              </a:rPr>
              <a:t>les permite formarse en un entorno real de trabajo y afrontar las dificultades y especificidades que, en ocasiones, no es posible reproducir en los centros educativos</a:t>
            </a:r>
            <a:r>
              <a:rPr b="0" lang="es-ES" sz="1800" spc="-1" strike="noStrike">
                <a:solidFill>
                  <a:srgbClr val="000000"/>
                </a:solidFill>
                <a:latin typeface="Helvetica Ligh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lvl="1" marL="252360" indent="0">
              <a:lnSpc>
                <a:spcPct val="8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Helvetica Light"/>
              </a:rPr>
              <a:t>Les permite</a:t>
            </a:r>
            <a:r>
              <a:rPr b="0" lang="es-ES" sz="1800" spc="-1" strike="noStrike">
                <a:solidFill>
                  <a:srgbClr val="000000"/>
                </a:solidFill>
                <a:latin typeface="Helvetica Light"/>
              </a:rPr>
              <a:t>, además, </a:t>
            </a:r>
            <a:r>
              <a:rPr b="1" lang="es-ES" sz="1800" spc="-1" strike="noStrike">
                <a:solidFill>
                  <a:srgbClr val="0000ff"/>
                </a:solidFill>
                <a:latin typeface="Helvetica Light"/>
              </a:rPr>
              <a:t>evidenciar ante la empresas sus capacidades</a:t>
            </a:r>
            <a:r>
              <a:rPr b="0" lang="es-ES" sz="18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1" lang="es-ES" sz="1800" spc="-1" strike="noStrike">
                <a:solidFill>
                  <a:srgbClr val="1b8518"/>
                </a:solidFill>
                <a:latin typeface="Helvetica Light"/>
              </a:rPr>
              <a:t>conocimientos y competencias</a:t>
            </a:r>
            <a:r>
              <a:rPr b="0" lang="es-ES" sz="1800" spc="-1" strike="noStrike">
                <a:solidFill>
                  <a:srgbClr val="000000"/>
                </a:solidFill>
                <a:latin typeface="Helvetica Light"/>
              </a:rPr>
              <a:t>, lo que en un futuro mejorará su acceso al empleo.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  <a:p>
            <a:pPr lvl="1" marL="252360" indent="0">
              <a:lnSpc>
                <a:spcPct val="8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Helvetica Light"/>
              </a:rPr>
              <a:t>La formación en  un entorno real de trabajo </a:t>
            </a:r>
            <a:r>
              <a:rPr b="1" lang="es-ES" sz="1800" spc="-1" strike="noStrike">
                <a:solidFill>
                  <a:srgbClr val="cc3300"/>
                </a:solidFill>
                <a:latin typeface="Helvetica Light"/>
              </a:rPr>
              <a:t>incentiva el emprendedurismo</a:t>
            </a:r>
            <a:r>
              <a:rPr b="0" lang="es-ES" sz="1800" spc="-1" strike="noStrike">
                <a:solidFill>
                  <a:srgbClr val="000000"/>
                </a:solidFill>
                <a:latin typeface="Helvetica Light"/>
              </a:rPr>
              <a:t> del alumnado y esto es especialmente importante en un país como España en el que nuestro tejido productivo está formado fundamentalmente por pequeñas y medianas empresas.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Rectangle 3"/>
          <p:cNvGrpSpPr/>
          <p:nvPr/>
        </p:nvGrpSpPr>
        <p:grpSpPr>
          <a:xfrm>
            <a:off x="811080" y="1736640"/>
            <a:ext cx="8236080" cy="4340160"/>
            <a:chOff x="811080" y="1736640"/>
            <a:chExt cx="8236080" cy="4340160"/>
          </a:xfrm>
        </p:grpSpPr>
        <p:pic>
          <p:nvPicPr>
            <p:cNvPr id="87" name="Rectangle 3" descr=""/>
            <p:cNvPicPr/>
            <p:nvPr/>
          </p:nvPicPr>
          <p:blipFill>
            <a:blip r:embed="rId1"/>
            <a:stretch/>
          </p:blipFill>
          <p:spPr>
            <a:xfrm>
              <a:off x="811080" y="1736640"/>
              <a:ext cx="823608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920880" y="1844640"/>
              <a:ext cx="8018280" cy="41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" rIns="37440" tIns="37440" bIns="37440" anchor="ctr">
              <a:noAutofit/>
            </a:bodyPr>
            <a:p>
              <a:pPr>
                <a:spcBef>
                  <a:spcPts val="3087"/>
                </a:spcBef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Helvetica Light"/>
                </a:rPr>
                <a:t>Para las administraciones educativas y laborales.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100000"/>
                </a:lnSpc>
                <a:spcBef>
                  <a:spcPts val="3087"/>
                </a:spcBef>
                <a:tabLst>
                  <a:tab algn="l" pos="0"/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Helvetica Light"/>
                  <a:ea typeface="ＭＳ Ｐゴシック"/>
                </a:rPr>
                <a:t>Permitir la planificación de ofertas</a:t>
              </a:r>
              <a:r>
                <a:rPr b="0" lang="en-US" sz="2800" spc="-1" strike="noStrike">
                  <a:solidFill>
                    <a:srgbClr val="000000"/>
                  </a:solidFill>
                  <a:latin typeface="Helvetica Light"/>
                  <a:ea typeface="ＭＳ Ｐゴシック"/>
                </a:rPr>
                <a:t> formativas y de acciones en el ámbito de la formación para el empleo </a:t>
              </a:r>
              <a:r>
                <a:rPr b="1" lang="en-US" sz="2800" spc="-1" strike="noStrike">
                  <a:solidFill>
                    <a:srgbClr val="cc3300"/>
                  </a:solidFill>
                  <a:latin typeface="Helvetica Light"/>
                  <a:ea typeface="ＭＳ Ｐゴシック"/>
                </a:rPr>
                <a:t>a medio y largo plazo, para dar respuesta  a las demandas del mercado de trabajo</a:t>
              </a:r>
              <a:r>
                <a:rPr b="0" lang="en-US" sz="2800" spc="-1" strike="noStrike">
                  <a:solidFill>
                    <a:srgbClr val="000000"/>
                  </a:solidFill>
                  <a:latin typeface="Helvetica Light"/>
                  <a:ea typeface="ＭＳ Ｐゴシック"/>
                </a:rPr>
                <a:t> y a los cambios en los sectores productivos.</a:t>
              </a:r>
              <a:endParaRPr b="0" lang="en-US" sz="28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9880" y="1555920"/>
            <a:ext cx="8208720" cy="4410000"/>
          </a:xfrm>
          <a:prstGeom prst="rect">
            <a:avLst/>
          </a:prstGeom>
          <a:noFill/>
          <a:ln w="12600">
            <a:solidFill>
              <a:srgbClr val="095cc4"/>
            </a:solidFill>
            <a:miter/>
          </a:ln>
        </p:spPr>
        <p:txBody>
          <a:bodyPr lIns="37440" rIns="37440" tIns="37440" bIns="37440" anchor="ctr">
            <a:normAutofit fontScale="97000"/>
          </a:bodyPr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Helvetica Light"/>
              </a:rPr>
              <a:t>CONCEPTO DE F.P. DUAL según el Real Decreto 1529/2012: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500" spc="-1" strike="noStrike">
                <a:solidFill>
                  <a:srgbClr val="cc3300"/>
                </a:solidFill>
                <a:latin typeface="Helvetica Light"/>
              </a:rPr>
              <a:t>Conjunto de acciones formativas</a:t>
            </a:r>
            <a:r>
              <a:rPr b="0" lang="en-US" sz="2500" spc="-1" strike="noStrike">
                <a:solidFill>
                  <a:srgbClr val="000000"/>
                </a:solidFill>
                <a:latin typeface="Helvetica Light"/>
              </a:rPr>
              <a:t>, </a:t>
            </a:r>
            <a:r>
              <a:rPr b="1" lang="en-US" sz="2500" spc="-1" strike="noStrike">
                <a:solidFill>
                  <a:srgbClr val="1b8518"/>
                </a:solidFill>
                <a:latin typeface="Helvetica Light"/>
              </a:rPr>
              <a:t>mixtas de empleo y formación,</a:t>
            </a:r>
            <a:r>
              <a:rPr b="0" lang="en-US" sz="2500" spc="-1" strike="noStrike">
                <a:solidFill>
                  <a:srgbClr val="000000"/>
                </a:solidFill>
                <a:latin typeface="Helvetica Light"/>
              </a:rPr>
              <a:t> que tienen por </a:t>
            </a:r>
            <a:r>
              <a:rPr b="1" lang="en-US" sz="2500" spc="-1" strike="noStrike">
                <a:solidFill>
                  <a:srgbClr val="1b8518"/>
                </a:solidFill>
                <a:latin typeface="Helvetica Light"/>
              </a:rPr>
              <a:t>objeto la cualificación profesional de los trabajadores en un régimen de alternancia de actividad laboral en una empresa con la actividad formativa</a:t>
            </a:r>
            <a:r>
              <a:rPr b="0" lang="en-US" sz="2500" spc="-1" strike="noStrike">
                <a:solidFill>
                  <a:srgbClr val="000000"/>
                </a:solidFill>
                <a:latin typeface="Helvetica Light"/>
              </a:rPr>
              <a:t> recibida en el marco del sistema de formación profesional para el empleo o del sistema educativo, incluyendo los proyectos desarrollados en el ámbito del sistema educativo 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835200" y="438120"/>
            <a:ext cx="7980120" cy="171936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3" descr=""/>
          <p:cNvPicPr/>
          <p:nvPr/>
        </p:nvPicPr>
        <p:blipFill>
          <a:blip r:embed="rId2"/>
          <a:stretch/>
        </p:blipFill>
        <p:spPr>
          <a:xfrm>
            <a:off x="249120" y="1925640"/>
            <a:ext cx="6883560" cy="81691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5"/>
          <p:cNvSpPr/>
          <p:nvPr/>
        </p:nvSpPr>
        <p:spPr>
          <a:xfrm>
            <a:off x="7091280" y="2214720"/>
            <a:ext cx="1974960" cy="3746520"/>
          </a:xfrm>
          <a:prstGeom prst="rtTriangle">
            <a:avLst/>
          </a:prstGeom>
          <a:gradFill rotWithShape="0">
            <a:gsLst>
              <a:gs pos="0">
                <a:srgbClr val="1b8518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440" rIns="37440" tIns="37440" bIns="37440" anchor="ctr">
            <a:noAutofit/>
          </a:bodyPr>
          <a:p>
            <a:pPr marL="252360" algn="ctr"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Helvetica Light"/>
              </a:rPr>
              <a:t>Formación</a:t>
            </a:r>
            <a:endParaRPr b="0" lang="en-US" sz="1300" spc="-1" strike="noStrike">
              <a:solidFill>
                <a:srgbClr val="000000"/>
              </a:solidFill>
              <a:latin typeface="Helvetica Light"/>
            </a:endParaRPr>
          </a:p>
          <a:p>
            <a:pPr marL="252360" algn="ctr"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Helvetica Light"/>
              </a:rPr>
              <a:t>En</a:t>
            </a:r>
            <a:endParaRPr b="0" lang="en-US" sz="1300" spc="-1" strike="noStrike">
              <a:solidFill>
                <a:srgbClr val="000000"/>
              </a:solidFill>
              <a:latin typeface="Helvetica Light"/>
            </a:endParaRPr>
          </a:p>
          <a:p>
            <a:pPr marL="252360" algn="ctr"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Helvetica Light"/>
              </a:rPr>
              <a:t>empresa</a:t>
            </a:r>
            <a:endParaRPr b="0" lang="en-US" sz="13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3" name="AutoShape 17"/>
          <p:cNvSpPr/>
          <p:nvPr/>
        </p:nvSpPr>
        <p:spPr>
          <a:xfrm rot="10800000">
            <a:off x="7202520" y="2214360"/>
            <a:ext cx="1974960" cy="3746520"/>
          </a:xfrm>
          <a:prstGeom prst="rtTriangle">
            <a:avLst/>
          </a:prstGeom>
          <a:gradFill rotWithShape="0">
            <a:gsLst>
              <a:gs pos="0">
                <a:srgbClr val="1b8518"/>
              </a:gs>
              <a:gs pos="100000">
                <a:srgbClr val="ffff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440" rIns="37440" tIns="37440" bIns="37440" anchor="ctr" rot="10800000">
            <a:noAutofit/>
          </a:bodyPr>
          <a:p>
            <a:pPr marL="252360" algn="ctr"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Helvetica Light"/>
              </a:rPr>
              <a:t>Formación</a:t>
            </a:r>
            <a:endParaRPr b="0" lang="en-US" sz="1500" spc="-1" strike="noStrike">
              <a:solidFill>
                <a:srgbClr val="000000"/>
              </a:solidFill>
              <a:latin typeface="Helvetica Light"/>
            </a:endParaRPr>
          </a:p>
          <a:p>
            <a:pPr marL="252360" algn="ctr"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Helvetica Light"/>
              </a:rPr>
              <a:t>En</a:t>
            </a:r>
            <a:endParaRPr b="0" lang="en-US" sz="1500" spc="-1" strike="noStrike">
              <a:solidFill>
                <a:srgbClr val="000000"/>
              </a:solidFill>
              <a:latin typeface="Helvetica Light"/>
            </a:endParaRPr>
          </a:p>
          <a:p>
            <a:pPr marL="252360" algn="ctr"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Helvetica Light"/>
              </a:rPr>
              <a:t>Centro</a:t>
            </a:r>
            <a:endParaRPr b="0" lang="en-US" sz="1500" spc="-1" strike="noStrike">
              <a:solidFill>
                <a:srgbClr val="000000"/>
              </a:solidFill>
              <a:latin typeface="Helvetica Light"/>
            </a:endParaRPr>
          </a:p>
          <a:p>
            <a:pPr marL="252360" algn="ctr"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Helvetica Light"/>
              </a:rPr>
              <a:t>Educativo</a:t>
            </a:r>
            <a:endParaRPr b="0" lang="en-US" sz="1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14200" y="1555560"/>
            <a:ext cx="7970760" cy="401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1b8518"/>
            </a:solidFill>
            <a:miter/>
          </a:ln>
        </p:spPr>
        <p:txBody>
          <a:bodyPr lIns="37440" rIns="37440" tIns="37440" bIns="37440" anchor="ctr">
            <a:normAutofit/>
          </a:bodyPr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2800" spc="-1" strike="noStrike" u="sng">
                <a:solidFill>
                  <a:srgbClr val="1b8518"/>
                </a:solidFill>
                <a:uFillTx/>
                <a:latin typeface="Helvetica Light"/>
              </a:rPr>
              <a:t>Formación exclusiva en centro educativo</a:t>
            </a:r>
            <a:r>
              <a:rPr b="1" lang="es-ES" sz="2800" spc="-1" strike="noStrike">
                <a:solidFill>
                  <a:srgbClr val="000000"/>
                </a:solidFill>
                <a:latin typeface="Helvetica Light"/>
              </a:rPr>
              <a:t>, que consiste en compatibilizar y alternar la formación que se adquiere en el centro de formación y la actividad laboral que se lleva a cabo en la empresa. En la empresa sólo se realiza el trabajo relacionado con los estudios.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66600" y="1946160"/>
            <a:ext cx="797220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Helvetica Light"/>
              </a:rPr>
              <a:t>Formación con participación de la empresa,</a:t>
            </a:r>
            <a:r>
              <a:rPr b="1" lang="en-US" sz="2800" spc="-1" strike="noStrike">
                <a:solidFill>
                  <a:srgbClr val="000000"/>
                </a:solidFill>
                <a:latin typeface="Helvetica Light"/>
              </a:rPr>
              <a:t> consistente en que </a:t>
            </a:r>
            <a:r>
              <a:rPr b="1" lang="en-US" sz="2800" spc="-1" strike="noStrike">
                <a:solidFill>
                  <a:srgbClr val="0000ff"/>
                </a:solidFill>
                <a:latin typeface="Helvetica Light"/>
              </a:rPr>
              <a:t>las empresas faciliten</a:t>
            </a:r>
            <a:r>
              <a:rPr b="1" lang="en-US" sz="2800" spc="-1" strike="noStrike">
                <a:solidFill>
                  <a:srgbClr val="000000"/>
                </a:solidFill>
                <a:latin typeface="Helvetica Light"/>
              </a:rPr>
              <a:t> a los centros de formación los </a:t>
            </a:r>
            <a:r>
              <a:rPr b="1" lang="en-US" sz="2800" spc="-1" strike="noStrike">
                <a:solidFill>
                  <a:srgbClr val="0000ff"/>
                </a:solidFill>
                <a:latin typeface="Helvetica Light"/>
              </a:rPr>
              <a:t>espacios, las instalaciones o los expertos</a:t>
            </a:r>
            <a:r>
              <a:rPr b="1" lang="en-US" sz="28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1" lang="en-US" sz="2800" spc="-1" strike="noStrike">
                <a:solidFill>
                  <a:srgbClr val="1b8518"/>
                </a:solidFill>
                <a:latin typeface="Helvetica Light"/>
              </a:rPr>
              <a:t>para impartir total o parcialmente determinados módulos</a:t>
            </a:r>
            <a:r>
              <a:rPr b="1" lang="en-US" sz="2800" spc="-1" strike="noStrike">
                <a:solidFill>
                  <a:srgbClr val="000000"/>
                </a:solidFill>
                <a:latin typeface="Helvetica Light"/>
              </a:rPr>
              <a:t> profesionales o módulos formativos.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7360" y="833400"/>
            <a:ext cx="9355320" cy="383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95360" y="4938840"/>
            <a:ext cx="8982000" cy="1831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indent="0">
              <a:lnSpc>
                <a:spcPct val="90000"/>
              </a:lnSpc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Helvetica Light"/>
              </a:rPr>
              <a:t>De acuerdo con los datos que nos facilita el Servicio Público de Empleo Estatal, en España existían en el mes de septiembre un total de </a:t>
            </a:r>
            <a:r>
              <a:rPr b="1" lang="es-ES" sz="2200" spc="-1" strike="noStrike">
                <a:solidFill>
                  <a:srgbClr val="990000"/>
                </a:solidFill>
                <a:latin typeface="Helvetica Light"/>
              </a:rPr>
              <a:t>1.261.151 jóvenes de entre 16 y 29 años</a:t>
            </a:r>
            <a:r>
              <a:rPr b="0" lang="es-ES" sz="22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1" lang="es-ES" sz="2200" spc="-1" strike="noStrike">
                <a:solidFill>
                  <a:srgbClr val="990000"/>
                </a:solidFill>
                <a:latin typeface="Helvetica Light"/>
              </a:rPr>
              <a:t>de edad inscritos como demandantes de empleo</a:t>
            </a:r>
            <a:r>
              <a:rPr b="0" lang="es-ES" sz="2200" spc="-1" strike="noStrike">
                <a:solidFill>
                  <a:srgbClr val="000000"/>
                </a:solidFill>
                <a:latin typeface="Helvetica Light"/>
              </a:rPr>
              <a:t>. </a:t>
            </a:r>
            <a:r>
              <a:rPr b="1" lang="es-ES" sz="2200" spc="-1" strike="noStrike">
                <a:solidFill>
                  <a:srgbClr val="000099"/>
                </a:solidFill>
                <a:latin typeface="Helvetica Light"/>
              </a:rPr>
              <a:t>De esos jóvenes 985.772 figuraban como parados</a:t>
            </a:r>
            <a:r>
              <a:rPr b="0" lang="es-ES" sz="2200" spc="-1" strike="noStrike">
                <a:solidFill>
                  <a:srgbClr val="000000"/>
                </a:solidFill>
                <a:latin typeface="Helvetica Light"/>
              </a:rPr>
              <a:t> en los mismos servicios.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306600" y="237960"/>
            <a:ext cx="617544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Contexto en el que se desarrolla</a:t>
            </a:r>
            <a:endParaRPr b="0" lang="en-US" sz="27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66600" y="1946160"/>
            <a:ext cx="797220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s-ES" sz="2800" spc="-1" strike="noStrike" u="sng">
                <a:solidFill>
                  <a:srgbClr val="0000ff"/>
                </a:solidFill>
                <a:uFillTx/>
                <a:latin typeface="Helvetica Light"/>
              </a:rPr>
              <a:t>Formación en empresa autorizada o acreditada y en centro de formación</a:t>
            </a:r>
            <a:r>
              <a:rPr b="1" lang="es-ES" sz="2800" spc="-1" strike="noStrike">
                <a:solidFill>
                  <a:srgbClr val="0000ff"/>
                </a:solidFill>
                <a:latin typeface="Helvetica Light"/>
              </a:rPr>
              <a:t>,</a:t>
            </a:r>
            <a:r>
              <a:rPr b="1" lang="es-ES" sz="2800" spc="-1" strike="noStrike">
                <a:solidFill>
                  <a:srgbClr val="000000"/>
                </a:solidFill>
                <a:latin typeface="Helvetica Light"/>
              </a:rPr>
              <a:t> que consiste en </a:t>
            </a:r>
            <a:r>
              <a:rPr b="1" lang="es-ES" sz="2800" spc="-1" strike="noStrike">
                <a:solidFill>
                  <a:srgbClr val="ff9900"/>
                </a:solidFill>
                <a:latin typeface="Helvetica Light"/>
              </a:rPr>
              <a:t>la impartición de determinados módulos profesionales o módulos formativos en la empresa</a:t>
            </a:r>
            <a:r>
              <a:rPr b="1" lang="es-ES" sz="2800" spc="-1" strike="noStrike">
                <a:solidFill>
                  <a:srgbClr val="000000"/>
                </a:solidFill>
                <a:latin typeface="Helvetica Light"/>
              </a:rPr>
              <a:t>, complementariamente a los que se impartan en el centro de formación.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92160" y="1341360"/>
            <a:ext cx="7972560" cy="401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1b8518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37440" rIns="37440" tIns="37440" bIns="37440" anchor="ctr">
            <a:normAutofit fontScale="97000"/>
          </a:bodyPr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en-US" sz="2500" spc="-1" strike="noStrike" u="sng">
                <a:solidFill>
                  <a:srgbClr val="0000ff"/>
                </a:solidFill>
                <a:uFillTx/>
                <a:latin typeface="Helvetica Light"/>
              </a:rPr>
              <a:t>Formación compartida entre el centro de formación y la empresa</a:t>
            </a:r>
            <a:r>
              <a:rPr b="0" lang="en-US" sz="2500" spc="-1" strike="noStrike">
                <a:solidFill>
                  <a:srgbClr val="0000ff"/>
                </a:solidFill>
                <a:latin typeface="Helvetica Light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Helvetica Light"/>
              </a:rPr>
              <a:t>que consiste en </a:t>
            </a:r>
            <a:r>
              <a:rPr b="1" lang="en-US" sz="2500" spc="-1" strike="noStrike">
                <a:solidFill>
                  <a:srgbClr val="1b8518"/>
                </a:solidFill>
                <a:latin typeface="Helvetica Light"/>
              </a:rPr>
              <a:t>coparticipar en distinta proporción en los procesos de enseñanza y aprendizaje</a:t>
            </a:r>
            <a:r>
              <a:rPr b="1" lang="en-US" sz="2500" spc="-1" strike="noStrike">
                <a:solidFill>
                  <a:srgbClr val="000000"/>
                </a:solidFill>
                <a:latin typeface="Helvetica Light"/>
              </a:rPr>
              <a:t> en la empresa y en el centro de formación. </a:t>
            </a:r>
            <a:r>
              <a:rPr b="1" lang="en-US" sz="2500" spc="-1" strike="noStrike">
                <a:solidFill>
                  <a:srgbClr val="cc3300"/>
                </a:solidFill>
                <a:latin typeface="Helvetica Light"/>
              </a:rPr>
              <a:t>La empresa deberá disponer de autorización de la Administración</a:t>
            </a:r>
            <a:r>
              <a:rPr b="1" lang="en-US" sz="2500" spc="-1" strike="noStrike">
                <a:solidFill>
                  <a:srgbClr val="000000"/>
                </a:solidFill>
                <a:latin typeface="Helvetica Light"/>
              </a:rPr>
              <a:t> educativa y/o de la acreditación de la Administración laboral correspondiente para impartir este tipo de formación, y estará adscrita al centro con el que comparta la formación</a:t>
            </a:r>
            <a:r>
              <a:rPr b="0" lang="en-US" sz="2500" spc="-1" strike="noStrike">
                <a:solidFill>
                  <a:srgbClr val="000000"/>
                </a:solidFill>
                <a:latin typeface="Helvetica Light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66600" y="1946160"/>
            <a:ext cx="7972200" cy="4019760"/>
          </a:xfrm>
          <a:prstGeom prst="rect">
            <a:avLst/>
          </a:prstGeom>
          <a:noFill/>
          <a:ln w="12600">
            <a:solidFill>
              <a:srgbClr val="095cc4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37440" rIns="37440" tIns="37440" bIns="37440" anchor="ctr">
            <a:normAutofit/>
          </a:bodyPr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2800" spc="-1" strike="noStrike" u="sng">
                <a:solidFill>
                  <a:srgbClr val="cc3300"/>
                </a:solidFill>
                <a:uFillTx/>
                <a:latin typeface="Helvetica Light"/>
              </a:rPr>
              <a:t>Formación exclusiva en la empresa</a:t>
            </a:r>
            <a:r>
              <a:rPr b="0" lang="es-ES" sz="2800" spc="-1" strike="noStrike">
                <a:solidFill>
                  <a:srgbClr val="cc3300"/>
                </a:solidFill>
                <a:latin typeface="Helvetica Light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Helvetica Light"/>
              </a:rPr>
              <a:t>que consiste en que la formación se imparte en su totalidad en la empresa, </a:t>
            </a:r>
            <a:r>
              <a:rPr b="1" lang="es-ES" sz="2800" spc="-1" strike="noStrike">
                <a:solidFill>
                  <a:srgbClr val="0000ff"/>
                </a:solidFill>
                <a:latin typeface="Helvetica Light"/>
              </a:rPr>
              <a:t>que deberá tener la autorización correspondiente</a:t>
            </a:r>
            <a:r>
              <a:rPr b="1" lang="es-ES" sz="2800" spc="-1" strike="noStrike">
                <a:solidFill>
                  <a:srgbClr val="000000"/>
                </a:solidFill>
                <a:latin typeface="Helvetica Ligh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Diagrama 1" descr=""/>
          <p:cNvPicPr/>
          <p:nvPr/>
        </p:nvPicPr>
        <p:blipFill>
          <a:blip r:embed="rId1"/>
          <a:stretch/>
        </p:blipFill>
        <p:spPr>
          <a:xfrm>
            <a:off x="927000" y="927000"/>
            <a:ext cx="834552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Rectangle 6"/>
          <p:cNvGrpSpPr/>
          <p:nvPr/>
        </p:nvGrpSpPr>
        <p:grpSpPr>
          <a:xfrm>
            <a:off x="225360" y="1316160"/>
            <a:ext cx="9667800" cy="5389560"/>
            <a:chOff x="225360" y="1316160"/>
            <a:chExt cx="9667800" cy="5389560"/>
          </a:xfrm>
        </p:grpSpPr>
        <p:pic>
          <p:nvPicPr>
            <p:cNvPr id="101" name="Rectangle 6" descr=""/>
            <p:cNvPicPr/>
            <p:nvPr/>
          </p:nvPicPr>
          <p:blipFill>
            <a:blip r:embed="rId1"/>
            <a:stretch/>
          </p:blipFill>
          <p:spPr>
            <a:xfrm>
              <a:off x="225360" y="1316160"/>
              <a:ext cx="966780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15800" y="1484280"/>
              <a:ext cx="9290160" cy="50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" rIns="37440" tIns="37440" bIns="37440" anchor="ctr">
              <a:noAutofit/>
            </a:bodyPr>
            <a:p>
              <a:pPr>
                <a:lnSpc>
                  <a:spcPct val="85000"/>
                </a:lnSpc>
                <a:spcAft>
                  <a:spcPts val="488"/>
                </a:spcAft>
                <a:buClr>
                  <a:srgbClr val="cc33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cc3300"/>
                  </a:solidFill>
                  <a:latin typeface="Helvetica Light"/>
                </a:rPr>
                <a:t>Se han realizado proyectos en </a:t>
              </a:r>
              <a:r>
                <a:rPr b="1" lang="es-ES" sz="1300" spc="-1" strike="noStrike">
                  <a:solidFill>
                    <a:srgbClr val="1b8518"/>
                  </a:solidFill>
                  <a:latin typeface="Helvetica Light"/>
                </a:rPr>
                <a:t>18 de las 26 familias profesionales</a:t>
              </a:r>
              <a:r>
                <a:rPr b="1" lang="es-ES" sz="1300" spc="-1" strike="noStrike">
                  <a:solidFill>
                    <a:srgbClr val="cc3300"/>
                  </a:solidFill>
                  <a:latin typeface="Helvetica Light"/>
                </a:rPr>
                <a:t>. Las familias en las que no se han desarrollado proyectos son: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Helvetica Light"/>
                  <a:ea typeface="ＭＳ Ｐゴシック"/>
                </a:rPr>
                <a:t>Actividades Físicas y Deportivas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Helvetica Light"/>
                  <a:ea typeface="ＭＳ Ｐゴシック"/>
                </a:rPr>
                <a:t>Artes Gráficas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Helvetica Light"/>
                  <a:ea typeface="ＭＳ Ｐゴシック"/>
                </a:rPr>
                <a:t>Vidrio y Cerámina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Helvetica Light"/>
                  <a:ea typeface="ＭＳ Ｐゴシック"/>
                </a:rPr>
                <a:t>Marítimo-Pesquera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Helvetica Light"/>
                  <a:ea typeface="ＭＳ Ｐゴシック"/>
                </a:rPr>
                <a:t>Industrias Extractivas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Helvetica Light"/>
                  <a:ea typeface="ＭＳ Ｐゴシック"/>
                </a:rPr>
                <a:t>Artes y Artesanías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Helvetica Light"/>
                  <a:ea typeface="ＭＳ Ｐゴシック"/>
                </a:rPr>
                <a:t>Imagen Personal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Helvetica Light"/>
                  <a:ea typeface="ＭＳ Ｐゴシック"/>
                </a:rPr>
                <a:t>Imagen y Sonido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>
                <a:lnSpc>
                  <a:spcPct val="85000"/>
                </a:lnSpc>
                <a:spcAft>
                  <a:spcPts val="488"/>
                </a:spcAft>
                <a:buClr>
                  <a:srgbClr val="cc33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cc3300"/>
                  </a:solidFill>
                  <a:latin typeface="Helvetica Light"/>
                </a:rPr>
                <a:t>Todas las Comunidades Autónomas han desarrollado proyectos, a excepción de Navarra</a:t>
              </a:r>
              <a:r>
                <a:rPr b="1" lang="es-ES" sz="1300" spc="-1" strike="noStrike">
                  <a:solidFill>
                    <a:srgbClr val="000000"/>
                  </a:solidFill>
                  <a:latin typeface="Helvetica Light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>
                <a:lnSpc>
                  <a:spcPct val="85000"/>
                </a:lnSpc>
                <a:spcAft>
                  <a:spcPts val="488"/>
                </a:spcAft>
                <a:buClr>
                  <a:srgbClr val="cc33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cc3300"/>
                  </a:solidFill>
                  <a:latin typeface="Helvetica Light"/>
                </a:rPr>
                <a:t>Se ha estimado una participación de</a:t>
              </a:r>
              <a:r>
                <a:rPr b="1" lang="es-ES" sz="1300" spc="-1" strike="noStrike">
                  <a:solidFill>
                    <a:srgbClr val="000000"/>
                  </a:solidFill>
                  <a:latin typeface="Helvetica Light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1b8518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1b8518"/>
                  </a:solidFill>
                  <a:latin typeface="Helvetica Light"/>
                  <a:ea typeface="ＭＳ Ｐゴシック"/>
                </a:rPr>
                <a:t>518 empresas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1b8518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1b8518"/>
                  </a:solidFill>
                  <a:latin typeface="Helvetica Light"/>
                  <a:ea typeface="ＭＳ Ｐゴシック"/>
                </a:rPr>
                <a:t>1453 alumnos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1b8518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1b8518"/>
                  </a:solidFill>
                  <a:latin typeface="Helvetica Light"/>
                  <a:ea typeface="ＭＳ Ｐゴシック"/>
                </a:rPr>
                <a:t>153 centros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>
                <a:lnSpc>
                  <a:spcPct val="85000"/>
                </a:lnSpc>
                <a:spcAft>
                  <a:spcPts val="488"/>
                </a:spcAft>
                <a:buClr>
                  <a:srgbClr val="cc3300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cc3300"/>
                  </a:solidFill>
                  <a:latin typeface="Helvetica Light"/>
                </a:rPr>
                <a:t>Los sistemas de financiación han sido variables: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1b8518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1b8518"/>
                  </a:solidFill>
                  <a:latin typeface="Helvetica Light"/>
                  <a:ea typeface="ＭＳ Ｐゴシック"/>
                </a:rPr>
                <a:t>Sistemas de becas, cofinanciadas en diferentes porcentajes entre empresas y centros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1b8518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1b8518"/>
                  </a:solidFill>
                  <a:latin typeface="Helvetica Light"/>
                  <a:ea typeface="ＭＳ Ｐゴシック"/>
                </a:rPr>
                <a:t>Contratos de formación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1b8518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1b8518"/>
                  </a:solidFill>
                  <a:latin typeface="Helvetica Light"/>
                  <a:ea typeface="ＭＳ Ｐゴシック"/>
                </a:rPr>
                <a:t>Pago directo de las empresas en diferentes cuantías, llegando la que más ha pagado al 80% del salario mínimo interprofesional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  <a:p>
              <a:pPr lvl="1" marL="252360">
                <a:lnSpc>
                  <a:spcPct val="85000"/>
                </a:lnSpc>
                <a:spcAft>
                  <a:spcPts val="488"/>
                </a:spcAft>
                <a:buClr>
                  <a:srgbClr val="1b8518"/>
                </a:buClr>
                <a:buFont typeface="Wingdings" charset="2"/>
                <a:buChar char=""/>
                <a:tabLst>
                  <a:tab algn="l" pos="430200"/>
                  <a:tab algn="l" pos="860400"/>
                  <a:tab algn="l" pos="1290600"/>
                  <a:tab algn="l" pos="1720800"/>
                  <a:tab algn="l" pos="2151000"/>
                  <a:tab algn="l" pos="2581200"/>
                  <a:tab algn="l" pos="3011400"/>
                  <a:tab algn="l" pos="3441600"/>
                  <a:tab algn="l" pos="3871800"/>
                  <a:tab algn="l" pos="4302000"/>
                  <a:tab algn="l" pos="4732200"/>
                  <a:tab algn="l" pos="5162400"/>
                  <a:tab algn="l" pos="5592600"/>
                  <a:tab algn="l" pos="6022800"/>
                  <a:tab algn="l" pos="6453360"/>
                  <a:tab algn="l" pos="6883560"/>
                  <a:tab algn="l" pos="7313760"/>
                  <a:tab algn="l" pos="7743960"/>
                  <a:tab algn="l" pos="8174160"/>
                  <a:tab algn="l" pos="8604360"/>
                </a:tabLst>
              </a:pPr>
              <a:r>
                <a:rPr b="1" lang="es-ES" sz="1300" spc="-1" strike="noStrike">
                  <a:solidFill>
                    <a:srgbClr val="1b8518"/>
                  </a:solidFill>
                  <a:latin typeface="Helvetica Light"/>
                  <a:ea typeface="ＭＳ Ｐゴシック"/>
                </a:rPr>
                <a:t>Becas exclusivamente a cargo de las administraciones educativas.</a:t>
              </a:r>
              <a:endParaRPr b="0" lang="en-US" sz="1300" spc="-1" strike="noStrike">
                <a:solidFill>
                  <a:srgbClr val="000000"/>
                </a:solidFill>
                <a:latin typeface="Helvetica Light"/>
              </a:endParaRPr>
            </a:p>
          </p:txBody>
        </p:sp>
      </p:grpSp>
      <p:sp>
        <p:nvSpPr>
          <p:cNvPr id="103" name="WordArt 7"/>
          <p:cNvSpPr txBox="1"/>
          <p:nvPr/>
        </p:nvSpPr>
        <p:spPr>
          <a:xfrm>
            <a:off x="3471840" y="795240"/>
            <a:ext cx="454176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Experiencias realizadas</a:t>
            </a:r>
            <a:endParaRPr b="0" lang="en-US" sz="27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image"/>
          <p:cNvPicPr/>
          <p:nvPr/>
        </p:nvPicPr>
        <p:blipFill>
          <a:blip r:embed="rId1"/>
          <a:srcRect l="6277" t="0" r="42427" b="0"/>
          <a:stretch/>
        </p:blipFill>
        <p:spPr>
          <a:xfrm>
            <a:off x="0" y="0"/>
            <a:ext cx="2851200" cy="749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image"/>
          <p:cNvPicPr/>
          <p:nvPr/>
        </p:nvPicPr>
        <p:blipFill>
          <a:blip r:embed="rId2"/>
          <a:stretch/>
        </p:blipFill>
        <p:spPr>
          <a:xfrm>
            <a:off x="7012080" y="-30240"/>
            <a:ext cx="3044880" cy="12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01"/>
          <p:cNvPicPr/>
          <p:nvPr/>
        </p:nvPicPr>
        <p:blipFill>
          <a:blip r:embed="rId3"/>
          <a:stretch/>
        </p:blipFill>
        <p:spPr>
          <a:xfrm>
            <a:off x="1547640" y="1000080"/>
            <a:ext cx="6423120" cy="516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AutoShape 4"/>
          <p:cNvSpPr/>
          <p:nvPr/>
        </p:nvSpPr>
        <p:spPr>
          <a:xfrm>
            <a:off x="0" y="6000840"/>
            <a:ext cx="1616040" cy="27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53280" bIns="53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Fuente: CEDEFOP</a:t>
            </a:r>
            <a:endParaRPr b="0" lang="en-US" sz="13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image"/>
          <p:cNvPicPr/>
          <p:nvPr/>
        </p:nvPicPr>
        <p:blipFill>
          <a:blip r:embed="rId1"/>
          <a:srcRect l="6277" t="0" r="42427" b="0"/>
          <a:stretch/>
        </p:blipFill>
        <p:spPr>
          <a:xfrm>
            <a:off x="0" y="0"/>
            <a:ext cx="2851200" cy="74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image"/>
          <p:cNvPicPr/>
          <p:nvPr/>
        </p:nvPicPr>
        <p:blipFill>
          <a:blip r:embed="rId2"/>
          <a:stretch/>
        </p:blipFill>
        <p:spPr>
          <a:xfrm>
            <a:off x="7012080" y="-30240"/>
            <a:ext cx="3044880" cy="120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image"/>
          <p:cNvPicPr/>
          <p:nvPr/>
        </p:nvPicPr>
        <p:blipFill>
          <a:blip r:embed="rId3"/>
          <a:stretch/>
        </p:blipFill>
        <p:spPr>
          <a:xfrm>
            <a:off x="928800" y="1498680"/>
            <a:ext cx="7719840" cy="390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image"/>
          <p:cNvPicPr/>
          <p:nvPr/>
        </p:nvPicPr>
        <p:blipFill>
          <a:blip r:embed="rId1"/>
          <a:srcRect l="6277" t="0" r="42427" b="0"/>
          <a:stretch/>
        </p:blipFill>
        <p:spPr>
          <a:xfrm>
            <a:off x="0" y="0"/>
            <a:ext cx="2851200" cy="749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image"/>
          <p:cNvPicPr/>
          <p:nvPr/>
        </p:nvPicPr>
        <p:blipFill>
          <a:blip r:embed="rId2"/>
          <a:stretch/>
        </p:blipFill>
        <p:spPr>
          <a:xfrm>
            <a:off x="7012080" y="-30240"/>
            <a:ext cx="3044880" cy="12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image"/>
          <p:cNvPicPr/>
          <p:nvPr/>
        </p:nvPicPr>
        <p:blipFill>
          <a:blip r:embed="rId3"/>
          <a:stretch/>
        </p:blipFill>
        <p:spPr>
          <a:xfrm>
            <a:off x="1201680" y="2930400"/>
            <a:ext cx="737712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63920" y="476280"/>
            <a:ext cx="4133880" cy="590544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/>
          </a:bodyPr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Helvetica Light"/>
              </a:rPr>
              <a:t>De acuerdo con el Padrón Municipal del año </a:t>
            </a:r>
            <a:r>
              <a:rPr b="1" lang="es-ES" sz="2500" spc="-1" strike="noStrike">
                <a:solidFill>
                  <a:srgbClr val="000099"/>
                </a:solidFill>
                <a:latin typeface="Helvetica Light"/>
              </a:rPr>
              <a:t>2011el número de ciudadanos de entre 16 y 29 años asciende a</a:t>
            </a:r>
            <a:r>
              <a:rPr b="0" lang="es-ES" sz="2500" spc="-1" strike="noStrike">
                <a:solidFill>
                  <a:srgbClr val="000000"/>
                </a:solidFill>
                <a:latin typeface="Helvetica Light"/>
              </a:rPr>
              <a:t> </a:t>
            </a:r>
            <a:r>
              <a:rPr b="1" lang="es-ES" sz="2500" spc="-1" strike="noStrike">
                <a:solidFill>
                  <a:srgbClr val="990000"/>
                </a:solidFill>
                <a:latin typeface="Helvetica Light"/>
              </a:rPr>
              <a:t>7.720.743.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Helvetica Light"/>
              </a:rPr>
              <a:t>De esos ciudadanos </a:t>
            </a:r>
            <a:r>
              <a:rPr b="1" lang="es-ES" sz="2500" spc="-1" strike="noStrike">
                <a:solidFill>
                  <a:srgbClr val="000099"/>
                </a:solidFill>
                <a:latin typeface="Helvetica Light"/>
              </a:rPr>
              <a:t>sólo están inscritos en búsqueda de empleo 1.261.151</a:t>
            </a:r>
            <a:r>
              <a:rPr b="0" lang="es-ES" sz="2500" spc="-1" strike="noStrike">
                <a:solidFill>
                  <a:srgbClr val="000000"/>
                </a:solidFill>
                <a:latin typeface="Helvetica Light"/>
              </a:rPr>
              <a:t>, lo que representa el </a:t>
            </a:r>
            <a:r>
              <a:rPr b="1" lang="es-ES" sz="2500" spc="-1" strike="noStrike">
                <a:solidFill>
                  <a:srgbClr val="990000"/>
                </a:solidFill>
                <a:latin typeface="Helvetica Light"/>
              </a:rPr>
              <a:t>16,33%</a:t>
            </a:r>
            <a:endParaRPr b="0" lang="en-US" sz="25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71440" y="1252440"/>
            <a:ext cx="317196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image"/>
          <p:cNvPicPr/>
          <p:nvPr/>
        </p:nvPicPr>
        <p:blipFill>
          <a:blip r:embed="rId1"/>
          <a:srcRect l="6277" t="0" r="42427" b="0"/>
          <a:stretch/>
        </p:blipFill>
        <p:spPr>
          <a:xfrm>
            <a:off x="0" y="0"/>
            <a:ext cx="285120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3"/>
          <p:cNvGraphicFramePr/>
          <p:nvPr/>
        </p:nvGraphicFramePr>
        <p:xfrm>
          <a:off x="2913120" y="1411200"/>
          <a:ext cx="5362560" cy="471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3120" y="1411200"/>
                    <a:ext cx="53625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AutoShape 4"/>
          <p:cNvSpPr/>
          <p:nvPr/>
        </p:nvSpPr>
        <p:spPr>
          <a:xfrm>
            <a:off x="695160" y="5857920"/>
            <a:ext cx="1428840" cy="27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53280" bIns="53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Fuente: Eurostat</a:t>
            </a:r>
            <a:endParaRPr b="0" lang="en-US" sz="13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307800" y="857160"/>
            <a:ext cx="9261720" cy="52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53280" bIns="53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orcentaje de alumnos en niveles de enseñanza postobligatoria que optan por la Formación Profesional en comparación con el Bachillerato o enseñanzas Equivalente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41400" y="1160640"/>
            <a:ext cx="9990360" cy="5762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867200" y="2065320"/>
            <a:ext cx="3432240" cy="29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Curso 1990/91-2010/11</a:t>
            </a:r>
            <a:endParaRPr b="0" lang="en-US" sz="13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41400" y="906480"/>
            <a:ext cx="9990360" cy="57625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22640" y="1698480"/>
            <a:ext cx="3431880" cy="29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Curso 1990/91-2010/11</a:t>
            </a:r>
            <a:endParaRPr b="0" lang="en-US" sz="13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41400" y="1058760"/>
            <a:ext cx="9990360" cy="57628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6440" y="2109960"/>
            <a:ext cx="3432240" cy="29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1280"/>
                <a:tab algn="l" pos="1222200"/>
                <a:tab algn="l" pos="1833480"/>
                <a:tab algn="l" pos="244476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Curso 1990/91-2010/11</a:t>
            </a:r>
            <a:endParaRPr b="0" lang="en-US" sz="13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3"/>
          <p:cNvGraphicFramePr/>
          <p:nvPr/>
        </p:nvGraphicFramePr>
        <p:xfrm>
          <a:off x="1332000" y="0"/>
          <a:ext cx="821196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0"/>
                    <a:ext cx="82119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28280" y="5554440"/>
            <a:ext cx="8885160" cy="45540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27000"/>
          </a:bodyPr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Helvetica Light"/>
              </a:rPr>
              <a:t>En España, en el curso académico 2010/11, último de los que tenemos datos consolidados, existían matriculados en </a:t>
            </a:r>
            <a:r>
              <a:rPr b="1" lang="es-ES" sz="1300" spc="-1" strike="noStrike">
                <a:solidFill>
                  <a:srgbClr val="000000"/>
                </a:solidFill>
                <a:latin typeface="Helvetica Light"/>
              </a:rPr>
              <a:t>segundo curso</a:t>
            </a:r>
            <a:r>
              <a:rPr b="0" lang="es-ES" sz="1300" spc="-1" strike="noStrike">
                <a:solidFill>
                  <a:srgbClr val="000000"/>
                </a:solidFill>
                <a:latin typeface="Helvetica Light"/>
              </a:rPr>
              <a:t> de Ciclos Formativos de Formación Profesional los siguientes alumnos:</a:t>
            </a:r>
            <a:endParaRPr b="0" lang="en-US" sz="13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i="1" lang="es-ES" sz="1300" spc="-1" strike="noStrike">
                <a:solidFill>
                  <a:srgbClr val="000000"/>
                </a:solidFill>
                <a:latin typeface="Helvetica Light"/>
              </a:rPr>
              <a:t>Grado Medio: 104.303    Grado Superior: 110.841</a:t>
            </a:r>
            <a:endParaRPr b="0" lang="en-US" sz="1300" spc="-1" strike="noStrike">
              <a:solidFill>
                <a:srgbClr val="000000"/>
              </a:solidFill>
              <a:latin typeface="Helvetica Light"/>
            </a:endParaRPr>
          </a:p>
          <a:p>
            <a:pPr indent="0">
              <a:spcBef>
                <a:spcPts val="3087"/>
              </a:spcBef>
              <a:buNone/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Helvetica Light"/>
              </a:rPr>
              <a:t>Estos alumnos </a:t>
            </a:r>
            <a:r>
              <a:rPr b="1" lang="es-ES" sz="1300" spc="-1" strike="noStrike">
                <a:solidFill>
                  <a:srgbClr val="0000ff"/>
                </a:solidFill>
                <a:latin typeface="Helvetica Light"/>
              </a:rPr>
              <a:t>han generado un número total de jornadas completas de trabajo (8 horas/jornada) de 11.363.557, con un total de 90.908.456 horas de prácticas</a:t>
            </a:r>
            <a:endParaRPr b="0" lang="en-US" sz="13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image"/>
          <p:cNvPicPr/>
          <p:nvPr/>
        </p:nvPicPr>
        <p:blipFill>
          <a:blip r:embed="rId1"/>
          <a:srcRect l="6277" t="0" r="42427" b="0"/>
          <a:stretch/>
        </p:blipFill>
        <p:spPr>
          <a:xfrm>
            <a:off x="0" y="0"/>
            <a:ext cx="2851200" cy="7491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"/>
          <p:cNvGrpSpPr/>
          <p:nvPr/>
        </p:nvGrpSpPr>
        <p:grpSpPr>
          <a:xfrm>
            <a:off x="541440" y="915840"/>
            <a:ext cx="8820000" cy="5726160"/>
            <a:chOff x="541440" y="915840"/>
            <a:chExt cx="8820000" cy="5726160"/>
          </a:xfrm>
        </p:grpSpPr>
        <p:pic>
          <p:nvPicPr>
            <p:cNvPr id="69" name="Picture 3" descr="asset"/>
            <p:cNvPicPr/>
            <p:nvPr/>
          </p:nvPicPr>
          <p:blipFill>
            <a:blip r:embed="rId2"/>
            <a:srcRect l="0" t="7245" r="0" b="22426"/>
            <a:stretch/>
          </p:blipFill>
          <p:spPr>
            <a:xfrm>
              <a:off x="635760" y="975960"/>
              <a:ext cx="8631000" cy="550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4" descr=""/>
            <p:cNvPicPr/>
            <p:nvPr/>
          </p:nvPicPr>
          <p:blipFill>
            <a:blip r:embed="rId3"/>
            <a:stretch/>
          </p:blipFill>
          <p:spPr>
            <a:xfrm>
              <a:off x="541440" y="915840"/>
              <a:ext cx="8820000" cy="572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WordArt 6"/>
          <p:cNvSpPr txBox="1"/>
          <p:nvPr/>
        </p:nvSpPr>
        <p:spPr>
          <a:xfrm>
            <a:off x="3297240" y="117360"/>
            <a:ext cx="3895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Base normativa</a:t>
            </a:r>
            <a:endParaRPr b="0" lang="en-US" sz="27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mariano.carballo</cp:lastModifiedBy>
  <dcterms:modified xsi:type="dcterms:W3CDTF">2012-12-12T14:01:51Z</dcterms:modified>
  <cp:revision>13</cp:revision>
  <dc:subject/>
  <dc:title>Diapositiva 1</dc:title>
</cp:coreProperties>
</file>