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4.jpeg" ContentType="image/jpeg"/>
  <Override PartName="/ppt/media/image16.wmf" ContentType="image/x-wmf"/>
  <Override PartName="/ppt/media/image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112-3892-42D4-A57C-AF989497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11F-B196-4B77-8276-493ABCE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C05-6B7B-4411-ACB2-55779D62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3FA-5E44-4555-A532-53EA68C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920-F4D0-457C-A101-3607868E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7AB2-6733-4DC8-80C9-AB14F52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794-01F0-478F-9BF2-8E6418FE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9427-C0B9-4D61-8D5F-560A3CE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68AD-C069-492A-B3E1-CFF775E3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BAA1-0115-46DE-B5C4-00743E67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694E-636E-4E25-8279-6A9BBDF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837-B47B-47D5-8FB6-5BD14A2C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B80C-8E8A-4B50-83D2-5DAC138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CCD-FCB0-41E4-A7D2-F256957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4ABA-DFFC-4F48-B0CD-0BA6B55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2DE2-703D-4E7E-B01C-640240C7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EE6-4B88-4DE3-8A65-3DA7D2B4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D1E-3133-4537-8AA6-F41D8FAE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513-8471-4E81-B810-7CBF83AD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A15-82D1-447C-A7C9-5D8A389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3AA-B4E3-49B3-B368-91A5D21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38B-BEC6-46B5-8AA8-A8815026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2DB-82E5-40F5-A125-C68662A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393-800D-41F8-AF0C-AED6ED4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20C-444D-4E5B-B33A-4A059876F3E1}" type="datetime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A6EE-2CA2-42C1-8179-D2EC516B900B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2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B221-BF1D-4980-A8EB-45DE3312B0EC}" type="datetime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33F6-CD41-43C2-A462-841F9116A4E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5DD-D24F-46F7-ACA6-90947F2838C4}" type="slidenum">
              <a:rPr b="0" lang="es-E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al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4"/>
          <p:cNvGraphicFramePr/>
          <p:nvPr/>
        </p:nvGraphicFramePr>
        <p:xfrm>
          <a:off x="0" y="380880"/>
          <a:ext cx="2693880" cy="83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269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2"/>
          <p:cNvSpPr/>
          <p:nvPr/>
        </p:nvSpPr>
        <p:spPr>
          <a:xfrm>
            <a:off x="324000" y="1413000"/>
            <a:ext cx="8208720" cy="1068840"/>
          </a:xfrm>
          <a:prstGeom prst="rect">
            <a:avLst/>
          </a:prstGeom>
          <a:solidFill>
            <a:srgbClr val="33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</a:rPr>
              <a:t>El sistema dual en la formaci</a:t>
            </a: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  <a:ea typeface="ＭＳ Ｐゴシック"/>
              </a:rPr>
              <a:t>ón profesional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0920" y="404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56000" y="220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68360" y="1125360"/>
            <a:ext cx="38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FERENCIA DE MINISTROS DE EDUCACIÓN DE LOS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987640" y="3645000"/>
            <a:ext cx="2521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un órgano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ita una evolución divergente entre los sistema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rantiza la permeabilidad entre los diferente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_DIHK Stuttgart_Frädrich_Página_14"/>
          <p:cNvPicPr/>
          <p:nvPr/>
        </p:nvPicPr>
        <p:blipFill>
          <a:blip r:embed="rId1"/>
          <a:stretch/>
        </p:blipFill>
        <p:spPr>
          <a:xfrm>
            <a:off x="-468360" y="22320"/>
            <a:ext cx="9612360" cy="683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979640" y="227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979640" y="2924280"/>
            <a:ext cx="388764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resas y Sindic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nen la creación de nuevas  profesiones o la modernización de las exist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rtan técnicos especilizados para la relización de los decretos regul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optan acuerdos y convenios sobre la bonificación de los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_DIHK Stuttgart_Frädrich_Página_15"/>
          <p:cNvPicPr/>
          <p:nvPr/>
        </p:nvPicPr>
        <p:blipFill>
          <a:blip r:embed="rId1"/>
          <a:stretch/>
        </p:blipFill>
        <p:spPr>
          <a:xfrm>
            <a:off x="-752400" y="-179280"/>
            <a:ext cx="9896400" cy="7037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-25236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92360" y="2060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92360" y="2708280"/>
            <a:ext cx="338436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ám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n a los agentes implicados en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an la formación en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an la idoneidad de las empresas y los for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levan un registro de los contratos de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izan los exámenes y expiden las titul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_DIHK Stuttgart_Frädrich_Página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059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5 nuevas profesiones des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92360" y="285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50 prof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5564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1928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987640" y="566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716360" y="566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ión y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84720" y="47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7020000" y="3789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ricultura y 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ESIONES EN EL SISTEMA D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NTRO DE TRABAJO/EMPRESA          CENTRO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472000" cy="4172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41128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95280" y="44560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DE TRABAJO/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981000"/>
            <a:ext cx="8820000" cy="5276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132000" y="3429000"/>
            <a:ext cx="273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ó 4 días a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re la base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creto regulad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e las profesiones (vincul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el marco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ato de formació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 derecho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012000" y="5589720"/>
            <a:ext cx="23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iben un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onificació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ctada con los sindic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0" y="1484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6600"/>
                </a:solidFill>
                <a:latin typeface="Arial"/>
              </a:rPr>
              <a:t>469.000 Empresas Form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774600" y="189000"/>
            <a:ext cx="53715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Acreditadas</a:t>
            </a:r>
            <a:r>
              <a:rPr b="0" lang="de-DE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or 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Instalaciones y materiale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Proporción : 6/8 trabajadores --- 3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Formadores acredi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804000" y="249228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76720" y="3684600"/>
            <a:ext cx="223200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no reúne todas las 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ociaciones de Formació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 Principal / E. Acompañ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 en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ros supraempresa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898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0_DIHK Stuttgart_Frädrich_Página_04"/>
          <p:cNvPicPr/>
          <p:nvPr/>
        </p:nvPicPr>
        <p:blipFill>
          <a:blip r:embed="rId1"/>
          <a:stretch/>
        </p:blipFill>
        <p:spPr>
          <a:xfrm>
            <a:off x="468360" y="836640"/>
            <a:ext cx="8675640" cy="5835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067280" y="400536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rt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etencias profesionales y de educ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971640" y="119700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98100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Currículos marco               KMK  (Ministe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Planes de estudio           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2556000" y="119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48436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156360" y="836640"/>
            <a:ext cx="259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1 ó 2 días por sem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no menos de 12 horas sem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308720" y="2349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7899"/>
                </a:solidFill>
                <a:latin typeface="Arial"/>
              </a:rPr>
              <a:t>8 h./ 4 h. asignaturas relacionadas con la profesión/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699280" y="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5280" y="981000"/>
            <a:ext cx="38894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Se divid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, según profesiones, </a:t>
            </a: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Come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dminist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Profesiones sociales /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gr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003640" y="1268280"/>
            <a:ext cx="367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 dividen,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según nivel de estudio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,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ásicos (1er. añ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specializados (2º y 3er añ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699280" y="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SIGN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55640" y="1052640"/>
            <a:ext cx="7705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es: deporte, lengua, ciencias sociales..... (4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oricas realacionadas con la profesión: cálculo, dibujo técnico....(8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RAN IMPORTANCIA EN UNA LENGUA EXTRANJERA (INGLÉ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 FP, una „tradición“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413000"/>
          <a:ext cx="4103640" cy="3255840"/>
        </p:xfrm>
        <a:graphic>
          <a:graphicData uri="http://schemas.openxmlformats.org/drawingml/2006/table">
            <a:tbl>
              <a:tblPr/>
              <a:tblGrid>
                <a:gridCol w="952560"/>
                <a:gridCol w="315108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.XI</a:t>
                      </a:r>
                      <a:r>
                        <a:rPr b="1" lang="es-E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Formación Profesional en los centros de trabaj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 aprox. 200 prof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escuelas profesio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de 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2" name="4 Imagen" descr="intro_handwerk_steinmetz.jpg"/>
          <p:cNvPicPr/>
          <p:nvPr/>
        </p:nvPicPr>
        <p:blipFill>
          <a:blip r:embed="rId1"/>
          <a:stretch/>
        </p:blipFill>
        <p:spPr>
          <a:xfrm>
            <a:off x="6588000" y="1557360"/>
            <a:ext cx="174312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5 Imagen" descr="BB SXIX.jpg"/>
          <p:cNvPicPr/>
          <p:nvPr/>
        </p:nvPicPr>
        <p:blipFill>
          <a:blip r:embed="rId2"/>
          <a:stretch/>
        </p:blipFill>
        <p:spPr>
          <a:xfrm>
            <a:off x="3708360" y="3716280"/>
            <a:ext cx="4005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FES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CuadroTexto"/>
          <p:cNvSpPr/>
          <p:nvPr/>
        </p:nvSpPr>
        <p:spPr>
          <a:xfrm>
            <a:off x="755640" y="2133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asignaturas generales o teóricas relacionadas con la profe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misma formación y titulación que el resto de profesores de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licenciatura, periodo de prácticas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práctic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n titulación universitaria. Suelen ser profesionales con el grado de maestro de taller (Me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_DIHK Stuttgart_Frädrich_Página_16"/>
          <p:cNvPicPr/>
          <p:nvPr/>
        </p:nvPicPr>
        <p:blipFill>
          <a:blip r:embed="rId1"/>
          <a:stretch/>
        </p:blipFill>
        <p:spPr>
          <a:xfrm>
            <a:off x="-2916360" y="-1684440"/>
            <a:ext cx="14760720" cy="1022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0" y="407664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516720" y="414972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419640" y="836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lbertus Extra Bold"/>
              </a:rPr>
              <a:t>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348000" y="6308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1440" y="213372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asesor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877080" y="19890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826920" y="126828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or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pactados entre la empresa, la escuela, la inspeccion educativa y la 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profesores hacen con frecuenci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centros suelen organizar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tividades y seminarios de actualiz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los formadores y otros trabajadores de las empr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56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sistema 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971640" y="774720"/>
          <a:ext cx="700704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774720"/>
                    <a:ext cx="70070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Financiación de la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Diagramm 6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05760" cy="426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457200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50920" y="278136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ENCIA FEDERAL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979640" y="1773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61928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Beneficios de la formación profesional para la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r mano de obra cualifi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jos costes de contr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uencia sobre el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conteni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organiz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formación según las necesidades d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los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apre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ilidad para la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incorpor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l mundo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ción en 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 laboral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Estándares uniform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cualif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ón motiv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21863"/>
                </a:solidFill>
                <a:latin typeface="Arial"/>
              </a:rPr>
              <a:t>ganan un sueldo/bonificación y reciben una formación (entre 270€ y 830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el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Posibilidad de ofrecer FP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a todos los jóvene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que salen de la educ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La contribución del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sector privado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/ menor presión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presupuest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Estándares competitivo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de formación para todo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Pilares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mportancia y efectividad de la responsabilidad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Financiación</a:t>
            </a:r>
            <a:r>
              <a:rPr b="1" lang="es-ES_tradnl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Pilotaje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global de los podere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niciativa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Papel mediador de la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cámaras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de industria, comercio y o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Sombras del sistema</a:t>
            </a:r>
            <a:br>
              <a:rPr sz="4400"/>
            </a:br>
            <a:r>
              <a:rPr b="0" lang="es-ES_tradnl" sz="2000" spc="-1" strike="noStrike">
                <a:solidFill>
                  <a:srgbClr val="252b63"/>
                </a:solidFill>
                <a:latin typeface="Cambria"/>
              </a:rPr>
              <a:t>(Informe 2012 de los sindic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cumplimiento de los planes de formación (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as extras no remuneradas (3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cion de funciones y tareas ajenas a la formación (3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formadores dentro de las empresas (2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a FP dentro del sistema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557360"/>
          <a:ext cx="8280360" cy="4896000"/>
        </p:xfrm>
        <a:graphic>
          <a:graphicData uri="http://schemas.openxmlformats.org/drawingml/2006/table">
            <a:tbl>
              <a:tblPr/>
              <a:tblGrid>
                <a:gridCol w="2070000"/>
                <a:gridCol w="2071800"/>
                <a:gridCol w="2068560"/>
                <a:gridCol w="2070000"/>
              </a:tblGrid>
              <a:tr h="950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rmación Profesional Contin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ivel terciario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partir de 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92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rcado lab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nivers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Sistema dual de 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51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FP esc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12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37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 a 18/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104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scuela Inter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ymnas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10/12 a 15/1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78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6 a 10/12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atisfaccion con el centro esc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3 Marcador de contenido" descr="Páginas de Ausbildungsreport-2012.jpg"/>
          <p:cNvPicPr/>
          <p:nvPr/>
        </p:nvPicPr>
        <p:blipFill>
          <a:blip r:embed="rId1"/>
          <a:stretch/>
        </p:blipFill>
        <p:spPr>
          <a:xfrm>
            <a:off x="468360" y="1341360"/>
            <a:ext cx="824400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4 CuadroTexto"/>
          <p:cNvSpPr/>
          <p:nvPr/>
        </p:nvSpPr>
        <p:spPr>
          <a:xfrm>
            <a:off x="2484360" y="213372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324000" y="501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 CuadroTexto"/>
          <p:cNvSpPr/>
          <p:nvPr/>
        </p:nvSpPr>
        <p:spPr>
          <a:xfrm>
            <a:off x="5435640" y="24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7 CuadroTexto"/>
          <p:cNvSpPr/>
          <p:nvPr/>
        </p:nvSpPr>
        <p:spPr>
          <a:xfrm>
            <a:off x="709308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CuadroTexto"/>
          <p:cNvSpPr/>
          <p:nvPr/>
        </p:nvSpPr>
        <p:spPr>
          <a:xfrm>
            <a:off x="7524720" y="5229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1214280" y="928800"/>
          <a:ext cx="981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28800"/>
                    <a:ext cx="981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1143000" y="2904480"/>
            <a:ext cx="800100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   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MINISTERIO DE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Consejer</a:t>
            </a: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ＭＳ Ｐゴシック"/>
              </a:rPr>
              <a:t>ía de Educación en Alema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Dic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¿Por qué FP „dual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conocimientos y destrezas necesarias para el ejercicio de una profesión se adquieren 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os lugare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Requisitos de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er concluído el periodo d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scolaridad obligatori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único requisito en teorí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aprendices son seleccionados por la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mpres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m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Duració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itualmen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Tit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pacita para el ejercicio profesional como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écnico es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REACIÓN DE NUEVAS PROFE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_DIHK Stuttgart_Frädrich_Página_11"/>
          <p:cNvPicPr/>
          <p:nvPr/>
        </p:nvPicPr>
        <p:blipFill>
          <a:blip r:embed="rId1"/>
          <a:stretch/>
        </p:blipFill>
        <p:spPr>
          <a:xfrm>
            <a:off x="826920" y="1341360"/>
            <a:ext cx="7920360" cy="487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851280" y="3357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retos regu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635280" y="4149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s de estud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348000" y="220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348000" y="2133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biern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219640" y="2421000"/>
            <a:ext cx="352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1484280"/>
            <a:ext cx="2016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en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y de la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33200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258920" y="4149720"/>
            <a:ext cx="15127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áma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empresa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76720" y="5334120"/>
            <a:ext cx="27367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6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ferencia de Ministros de Educación de los Estados (KM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227640" y="3716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588000" y="486900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ituto Federal de la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52b63"/>
                </a:solidFill>
                <a:latin typeface="Cambria"/>
              </a:rPr>
              <a:t>Ley de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Derechos y deberes de los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actore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 la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vestigación, mejora y desarrollo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fraestructura organizativa a través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Elementos fundamentales del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l Instituto Federal de FP (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BIBB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40000" y="19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D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43280" y="3500280"/>
            <a:ext cx="367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licación de la ley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etencia sobre el Instituto Federal de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yo a proyectos experimentales y d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reta la creacon de nuevos títul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0000" y="1989000"/>
            <a:ext cx="2303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STITUTO FEDERAL DE 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5600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059280" y="3357720"/>
            <a:ext cx="352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uesto por representantes empresariales y sindicales, a nivel federal y de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 al Ministerio en cuestion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visa los decretos reguldores de los nuevos títulos profesionales elaborados por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84360" y="2276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59280" y="3645000"/>
            <a:ext cx="2449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s de estudio para los centros escolar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ción del profesorado (los municipios aportan edificios y mobili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 de las Cám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49:39Z</dcterms:created>
  <dc:creator>MAR</dc:creator>
  <dc:description/>
  <dc:language>en-US</dc:language>
  <cp:lastModifiedBy>Gracia</cp:lastModifiedBy>
  <dcterms:modified xsi:type="dcterms:W3CDTF">2012-12-09T17:56:29Z</dcterms:modified>
  <cp:revision>742</cp:revision>
  <dc:subject/>
  <dc:title>LA SALUD EN ESPAÑA</dc:title>
</cp:coreProperties>
</file>