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07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734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9734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187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463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07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187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463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734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14400" y="5124960"/>
            <a:ext cx="777240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734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734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734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734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9907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734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9734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187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463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9907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187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2463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41E8-5201-4FF8-BF75-EDE97FD75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2436-4861-4B02-A756-1DD299250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9BD1-94CA-4A7C-8009-9BFBF32BB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9734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68FA-ED5D-40AA-AD3B-A77D5ACDB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E18A-346C-4E56-A2CF-1880E1702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914400" y="5124960"/>
            <a:ext cx="777240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E931-97C3-4D48-9686-019F5AA4D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734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6F23-D19C-41BD-82F4-D80F041D5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734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9734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8A1B-4013-4E1E-8793-B112DC72E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734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5532-8E78-45E8-A40D-8E25672AC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9907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6E7C-9CFE-4E62-9106-E8E92E95B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9734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9734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6FFA-AD98-4D4B-9977-825049F76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6187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2463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9907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6187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2463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4264-F47E-4788-B26C-EF1A9B98C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4DBEF-728A-4189-BDD4-567D82F95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153AE-F9B3-4D4F-9E9D-D9669A54C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52848-D6B6-48E6-A3DC-2F4F70915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734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9734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96FB2-CD7B-479E-B8AE-4714EE0DA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54660-9528-4C3C-AE84-8C2B0875D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914400" y="5124960"/>
            <a:ext cx="777240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6C1D6-AA9B-413D-B0E4-F95D1272F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9734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3D0D9-C8D3-4CE1-BF43-FDEFA7C50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9734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9734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E6C8F-CF61-42CA-9D60-85E555856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9734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1FCA2-C908-4007-A472-20785D9BB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9907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B4637-05E8-4469-BCEC-35532DECF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9734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9734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BA545-B0B0-4F6B-A97B-C3FDB32F4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6187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2463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9907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6187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2463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82866-DB01-4963-9FAB-3D1D15F3A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4400" y="5124960"/>
            <a:ext cx="777240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734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734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734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734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png"/><Relationship Id="rId3" Type="http://schemas.openxmlformats.org/officeDocument/2006/relationships/image" Target="../media/image1.jpeg"/><Relationship Id="rId4" Type="http://schemas.openxmlformats.org/officeDocument/2006/relationships/image" Target="../media/image4.jpeg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png"/><Relationship Id="rId3" Type="http://schemas.openxmlformats.org/officeDocument/2006/relationships/image" Target="../media/image1.jpeg"/><Relationship Id="rId4" Type="http://schemas.openxmlformats.org/officeDocument/2006/relationships/image" Target="../media/image4.jpeg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0800000">
            <a:off x="0" y="0"/>
            <a:ext cx="990720" cy="68580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ISITAS DE ESTUD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ORNADAS INFORMATIV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 rot="10800000">
            <a:off x="1219320" y="1774800"/>
            <a:ext cx="73152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116000" y="6021360"/>
            <a:ext cx="1871640" cy="50796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5187960" y="6021360"/>
            <a:ext cx="1544760" cy="4302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7236000" y="6021360"/>
            <a:ext cx="1461960" cy="41112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3419640" y="5734080"/>
            <a:ext cx="1454040" cy="100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 rot="10800000">
            <a:off x="0" y="0"/>
            <a:ext cx="990720" cy="68580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ISITAS DE ESTUD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ORNADAS INFORMATIV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rot="10800000">
            <a:off x="1219320" y="1774800"/>
            <a:ext cx="73152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116000" y="6021360"/>
            <a:ext cx="1871640" cy="5079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5187960" y="6021360"/>
            <a:ext cx="1544760" cy="430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7236000" y="6021360"/>
            <a:ext cx="1461960" cy="4111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3419640" y="5734080"/>
            <a:ext cx="1454040" cy="100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F9089-1B2A-4284-AAC6-741DC4AACF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rot="10800000">
            <a:off x="0" y="0"/>
            <a:ext cx="9907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0" bIns="46800" anchor="ctr" anchorCtr="1" vert="eaVer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rganismo Autónomo Programas Educativos Europe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948360" y="189000"/>
            <a:ext cx="1986120" cy="4255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1187280" y="6021360"/>
            <a:ext cx="1656000" cy="4492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3492360" y="5851440"/>
            <a:ext cx="1454400" cy="10065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5"/>
          <a:stretch/>
        </p:blipFill>
        <p:spPr>
          <a:xfrm>
            <a:off x="5364000" y="6021360"/>
            <a:ext cx="1544760" cy="4302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6"/>
          <a:stretch/>
        </p:blipFill>
        <p:spPr>
          <a:xfrm>
            <a:off x="7308720" y="6021360"/>
            <a:ext cx="1462320" cy="411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ABE12-F30B-4447-BE57-E775904C0A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rot="10800000">
            <a:off x="0" y="0"/>
            <a:ext cx="9907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0" bIns="46800" anchor="ctr" anchorCtr="1" vert="eaVer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rganismo Autónomo Programas Educativos Europe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6948360" y="189000"/>
            <a:ext cx="1986120" cy="4255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1187280" y="6021360"/>
            <a:ext cx="1656000" cy="4492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3492360" y="5851440"/>
            <a:ext cx="1454400" cy="10065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5"/>
          <a:stretch/>
        </p:blipFill>
        <p:spPr>
          <a:xfrm>
            <a:off x="5364000" y="6021360"/>
            <a:ext cx="1544760" cy="4302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6"/>
          <a:stretch/>
        </p:blipFill>
        <p:spPr>
          <a:xfrm>
            <a:off x="7308720" y="6021360"/>
            <a:ext cx="1462320" cy="411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1600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99ff"/>
                </a:solidFill>
                <a:latin typeface="Arial"/>
              </a:rPr>
              <a:t>VISITAS DE ESTUDIO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1692360" y="2565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cc"/>
                </a:solidFill>
                <a:latin typeface="Arial"/>
              </a:rPr>
              <a:t>PROGRAMA TRANSVERSAL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CONDICIONES DE PAGO Y DOCUMENTACIÓN</a:t>
            </a:r>
            <a:br>
              <a:rPr sz="1800"/>
            </a:b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BENEFICIARIOS DE VISITAS</a:t>
            </a:r>
            <a:br>
              <a:rPr sz="1600"/>
            </a:br>
            <a:r>
              <a:rPr b="1" lang="en-US" sz="1600" spc="-1" strike="noStrike">
                <a:solidFill>
                  <a:srgbClr val="0000cc"/>
                </a:solidFill>
                <a:latin typeface="Comic Sans MS"/>
              </a:rPr>
              <a:t> </a:t>
            </a:r>
            <a:r>
              <a:rPr b="1" lang="en-US" sz="4800" spc="-1" strike="noStrike" u="sng">
                <a:solidFill>
                  <a:srgbClr val="3333cc"/>
                </a:solidFill>
                <a:uFillTx/>
                <a:latin typeface="Arial"/>
              </a:rPr>
              <a:t>ANTES DE LA VISITA</a:t>
            </a: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524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cc0066"/>
                </a:solidFill>
                <a:uFillTx/>
                <a:latin typeface="Arial"/>
              </a:rPr>
              <a:t>Si usted ha recibido el convenio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cc0066"/>
                </a:solidFill>
                <a:latin typeface="Arial"/>
              </a:rPr>
              <a:t>Por favor, léalo con atención. Conozca las obligaciones de ambas partes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cc0066"/>
                </a:solidFill>
                <a:latin typeface="Arial"/>
              </a:rPr>
              <a:t>Además del convenio, se adjunta una guía práctica y tabla de dietas por países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cc"/>
                </a:solidFill>
                <a:latin typeface="Arial"/>
              </a:rPr>
              <a:t>Debe enviar a la A.N dos ejemplares del Convenio Financiero firmados  antes de 30 días naturales a contar desde la fecha de  su recepción (pag. 1-9)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cc"/>
                </a:solidFill>
                <a:latin typeface="Arial"/>
              </a:rPr>
              <a:t>Alta a terceros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cc"/>
                </a:solidFill>
                <a:latin typeface="Arial"/>
              </a:rPr>
              <a:t>La directora del OAPEE , como representante de la A.N. española firmará ambos ejemplares a su recepción, certificando el acuerdo.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cc"/>
                </a:solidFill>
                <a:latin typeface="Arial"/>
              </a:rPr>
              <a:t>Se realizará  pre-financiación del 80% de la ayuda máxima.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cc"/>
                </a:solidFill>
                <a:latin typeface="Arial"/>
              </a:rPr>
              <a:t>Plazo pago AN: 45 días naturales a partir de la entrada en vigor del convenio (a la firma de la última de ambas partes)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cc"/>
                </a:solidFill>
                <a:latin typeface="Arial"/>
              </a:rPr>
              <a:t>Se les remitirá un ejemplar con ambas firmas.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CONDICIONES DE PAGO Y DOCUMENTACIÓN</a:t>
            </a:r>
            <a:br>
              <a:rPr sz="1800"/>
            </a:b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BENEFICIARIOS DE VISITAS</a:t>
            </a:r>
            <a:br>
              <a:rPr sz="1600"/>
            </a:br>
            <a:r>
              <a:rPr b="1" lang="en-US" sz="1600" spc="-1" strike="noStrike">
                <a:solidFill>
                  <a:srgbClr val="0000cc"/>
                </a:solidFill>
                <a:latin typeface="Comic Sans MS"/>
              </a:rPr>
              <a:t> </a:t>
            </a:r>
            <a:r>
              <a:rPr b="1" lang="en-US" sz="4800" spc="-1" strike="noStrike" u="sng">
                <a:solidFill>
                  <a:srgbClr val="3333cc"/>
                </a:solidFill>
                <a:uFillTx/>
                <a:latin typeface="Arial"/>
              </a:rPr>
              <a:t>DESPUÉS DE LA VISITA</a:t>
            </a: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763280" y="1981080"/>
            <a:ext cx="7056360" cy="31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cc0066"/>
                </a:solidFill>
                <a:uFillTx/>
                <a:latin typeface="Arial"/>
              </a:rPr>
              <a:t>Si usted ha regresado de la visita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Informe final  </a:t>
            </a: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EN LÍNEA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 integrado por :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Declaración de gasto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Informe de evaluación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Memoria </a:t>
            </a: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pedagógica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Además deberá incluir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Informe de grupo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Copia del certificado de asistencia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cc"/>
                </a:solidFill>
                <a:uFillTx/>
                <a:latin typeface="Arial"/>
              </a:rPr>
              <a:t>Pago final (hasta un máximo 20% de la ayuda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Plazo: 45 días naturales desde la aprobación de la documentación fina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EJEMPLO</a:t>
            </a:r>
            <a:br>
              <a:rPr sz="1600"/>
            </a:b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CUMPLIMENTACIÓN INFORME FINAL</a:t>
            </a:r>
            <a:br>
              <a:rPr sz="1600"/>
            </a:b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VISITA DE ESTUDIOS A PORTUGAL (VISITA 5 DÍAS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1547640" y="1700280"/>
          <a:ext cx="6913440" cy="4003560"/>
        </p:xfrm>
        <a:graphic>
          <a:graphicData uri="http://schemas.openxmlformats.org/drawingml/2006/table">
            <a:tbl>
              <a:tblPr/>
              <a:tblGrid>
                <a:gridCol w="1630440"/>
                <a:gridCol w="2895480"/>
                <a:gridCol w="238752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COSTES DE LA ACTIVID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DESCRIP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IMPORTE (EN €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107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Viajes y visad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(costes reale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País que se visita- PORTUG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Localidad-Lisbo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Fecha inicio actividad. 22/10/20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Fecha fin actividad      26/10/20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98 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COSTES MÁXIM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DESCRIP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IMPORTE (EN €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184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Dietas (incluye seguro de viaje, alojamiento, manutención y transportes locale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Número de días – </a:t>
                      </a: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(135 € x 6 día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810 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COSTE TOTAL DE LA ACTIVID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208 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cc"/>
                </a:solidFill>
                <a:latin typeface="Arial"/>
              </a:rPr>
              <a:t>CONDICIONES DE PAGO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835280" y="1844280"/>
            <a:ext cx="669744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80000"/>
              </a:lnSpc>
              <a:spcBef>
                <a:spcPts val="34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 u="sng">
                <a:solidFill>
                  <a:srgbClr val="000099"/>
                </a:solidFill>
                <a:uFillTx/>
                <a:latin typeface="Arial"/>
              </a:rPr>
              <a:t>DURACIÓN DE LAS VISITAS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34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VISITAS FORMACIÓN PROFESIONAL Y MIXTAS:  3 - 4 DÍAS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34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VISITAS EDUCACIÓN GENERAL: 5 DÍAS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34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 u="sng">
                <a:solidFill>
                  <a:srgbClr val="000099"/>
                </a:solidFill>
                <a:uFillTx/>
                <a:latin typeface="Arial"/>
              </a:rPr>
              <a:t>DIETAS  (FINANCIACIÓN MÁXIMA)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DESTINOS ULTRAMAR (Martinica, Guadalupe, La Reunión ,Islas       </a:t>
            </a: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Caimán, etc)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                   </a:t>
            </a: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ORIGEN (Islas Canarias)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Días de duración de la visita + 2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     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       </a:t>
            </a: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RESTO DE DESTINOS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                   </a:t>
            </a: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Días de duración de la visita + 1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 u="sng">
                <a:solidFill>
                  <a:srgbClr val="000066"/>
                </a:solidFill>
                <a:uFillTx/>
                <a:latin typeface="Arial"/>
              </a:rPr>
              <a:t>       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14400" y="907560"/>
            <a:ext cx="77724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ASPECTOS PRÁCTICOS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797868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Arial"/>
              </a:rPr>
              <a:t>El organizador se pondrá en contacto con usted y le pedirá confirmación de su asistencia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Arial"/>
              </a:rPr>
              <a:t>Le remitirá la lista de participantes en la visita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Arial"/>
              </a:rPr>
              <a:t>Le facilitará información  (programa, visitas culturales, etc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Arial"/>
              </a:rPr>
              <a:t>Le indicará lo que espera de los participantes (exposiciones y contenidos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Arial"/>
              </a:rPr>
              <a:t>Le proporcionará información práctica (reserva de hotel, transportes, aeropuerto de llegada….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845800" y="260280"/>
            <a:ext cx="32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66"/>
                </a:solidFill>
                <a:uFillTx/>
                <a:latin typeface="Arial"/>
              </a:rPr>
              <a:t>ANTES DE LA VIS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58920" y="333000"/>
            <a:ext cx="72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ASPECTOS PRÁCTICOS</a:t>
            </a:r>
            <a:br>
              <a:rPr sz="1600"/>
            </a:br>
            <a:r>
              <a:rPr b="1" lang="en-US" sz="1800" spc="-1" strike="noStrike" u="sng">
                <a:solidFill>
                  <a:srgbClr val="cc0066"/>
                </a:solidFill>
                <a:uFillTx/>
                <a:latin typeface="Arial"/>
              </a:rPr>
              <a:t>DESPUÉS DE LA VISITA</a:t>
            </a:r>
            <a:br>
              <a:rPr sz="2800"/>
            </a:b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402920" y="1197000"/>
            <a:ext cx="7272360" cy="45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cc"/>
                </a:solidFill>
                <a:uFillTx/>
                <a:latin typeface="Arial"/>
              </a:rPr>
              <a:t>INFORME INDIVIDUA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Describir los conocimientos o competencias adquirido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Beneficio y conclusiones de la visita de cara a su desarrollo profesiona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onciencia de la dimensión europea de su trabajo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Forma en que piensa difundir lo aprendido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erspectivas de impacto de la visita en su participación en otras acciones del PAP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Arial"/>
              </a:rPr>
              <a:t>CANCELACION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619280" y="1699920"/>
            <a:ext cx="71438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00cc"/>
                </a:solidFill>
                <a:latin typeface="Arial"/>
              </a:rPr>
              <a:t>Deben comunicarse simultáneamente con suficiente antelació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99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00cc"/>
                </a:solidFill>
                <a:latin typeface="Arial"/>
              </a:rPr>
              <a:t>–</a:t>
            </a:r>
            <a:r>
              <a:rPr b="0" lang="es-ES" sz="2400" spc="-1" strike="noStrike">
                <a:solidFill>
                  <a:srgbClr val="9900cc"/>
                </a:solidFill>
                <a:latin typeface="Arial"/>
              </a:rPr>
              <a:t>Al organizado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99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00cc"/>
                </a:solidFill>
                <a:latin typeface="Arial"/>
              </a:rPr>
              <a:t>–</a:t>
            </a:r>
            <a:r>
              <a:rPr b="1" lang="es-ES" sz="2400" spc="-1" strike="noStrike">
                <a:solidFill>
                  <a:srgbClr val="9900cc"/>
                </a:solidFill>
                <a:latin typeface="Arial"/>
              </a:rPr>
              <a:t>A la Agencia Naciona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99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9900cc"/>
                </a:solidFill>
                <a:latin typeface="Arial"/>
              </a:rPr>
              <a:t>Cambios de visita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99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9900cc"/>
                </a:solidFill>
                <a:latin typeface="Arial"/>
              </a:rPr>
              <a:t>Se solicitan única y exclusivamente a la A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99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9900cc"/>
                </a:solidFill>
                <a:latin typeface="Arial"/>
              </a:rPr>
              <a:t>Sólo se realizan si están debidamente  justificada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76124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GB" sz="3200" spc="-1" strike="noStrike" u="sng">
                <a:solidFill>
                  <a:srgbClr val="cc0099"/>
                </a:solidFill>
                <a:uFillTx/>
                <a:latin typeface="Arial"/>
              </a:rPr>
              <a:t>VISITAS DE ESTUDIO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258560" y="836280"/>
            <a:ext cx="7885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cc"/>
                </a:solidFill>
                <a:latin typeface="Arial"/>
              </a:rPr>
              <a:t>EFECTOS MULTIPLICADORES: SINERGIAS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cc"/>
                </a:solidFill>
                <a:latin typeface="Arial"/>
                <a:ea typeface="Times New Roman"/>
              </a:rPr>
              <a:t> </a:t>
            </a:r>
            <a:r>
              <a:rPr b="0" lang="es-ES" sz="1600" spc="-1" strike="noStrike">
                <a:solidFill>
                  <a:srgbClr val="3333cc"/>
                </a:solidFill>
                <a:latin typeface="Arial"/>
                <a:ea typeface="Times New Roman"/>
              </a:rPr>
              <a:t>	</a:t>
            </a:r>
            <a:r>
              <a:rPr b="0" lang="es-ES" sz="1600" spc="-1" strike="noStrike">
                <a:solidFill>
                  <a:srgbClr val="3333cc"/>
                </a:solidFill>
                <a:latin typeface="Arial"/>
                <a:ea typeface="Times New Roman"/>
              </a:rPr>
              <a:t>► </a:t>
            </a:r>
            <a:r>
              <a:rPr b="1" lang="es-ES" sz="1600" spc="-1" strike="noStrike">
                <a:solidFill>
                  <a:srgbClr val="3333cc"/>
                </a:solidFill>
                <a:latin typeface="Arial"/>
                <a:ea typeface="Times New Roman"/>
              </a:rPr>
              <a:t>D</a:t>
            </a:r>
            <a:r>
              <a:rPr b="1" lang="es-ES" sz="1600" spc="-1" strike="noStrike">
                <a:solidFill>
                  <a:srgbClr val="3333cc"/>
                </a:solidFill>
                <a:latin typeface="Arial"/>
              </a:rPr>
              <a:t>esarrollo</a:t>
            </a:r>
            <a:r>
              <a:rPr b="0" lang="es-ES" sz="1600" spc="-1" strike="noStrike">
                <a:solidFill>
                  <a:srgbClr val="3333cc"/>
                </a:solidFill>
                <a:latin typeface="Arial"/>
              </a:rPr>
              <a:t> proyectos educativos de carácter transnacional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3333cc"/>
                </a:solidFill>
                <a:latin typeface="Arial"/>
                <a:ea typeface="Times New Roman"/>
              </a:rPr>
              <a:t>► </a:t>
            </a:r>
            <a:r>
              <a:rPr b="1" lang="es-ES" sz="1600" spc="-1" strike="noStrike">
                <a:solidFill>
                  <a:srgbClr val="3333cc"/>
                </a:solidFill>
                <a:latin typeface="Arial"/>
                <a:ea typeface="Times New Roman"/>
              </a:rPr>
              <a:t>Implicación </a:t>
            </a:r>
            <a:r>
              <a:rPr b="0" lang="es-ES" sz="1600" spc="-1" strike="noStrike">
                <a:solidFill>
                  <a:srgbClr val="3333cc"/>
                </a:solidFill>
                <a:latin typeface="Arial"/>
                <a:ea typeface="Times New Roman"/>
              </a:rPr>
              <a:t>de las personas asistentes y sus instituciones en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cc"/>
                </a:solidFill>
                <a:latin typeface="Arial"/>
                <a:ea typeface="Times New Roman"/>
              </a:rPr>
              <a:t>             </a:t>
            </a:r>
            <a:r>
              <a:rPr b="0" lang="es-ES" sz="1600" spc="-1" strike="noStrike">
                <a:solidFill>
                  <a:srgbClr val="3333cc"/>
                </a:solidFill>
                <a:latin typeface="Arial"/>
                <a:ea typeface="Times New Roman"/>
              </a:rPr>
              <a:t>otros programas del PAP.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cc"/>
                </a:solidFill>
                <a:latin typeface="Arial"/>
                <a:ea typeface="Times New Roman"/>
              </a:rPr>
              <a:t> </a:t>
            </a:r>
            <a:r>
              <a:rPr b="0" lang="es-ES" sz="1600" spc="-1" strike="noStrike">
                <a:solidFill>
                  <a:srgbClr val="3333cc"/>
                </a:solidFill>
                <a:latin typeface="Arial"/>
                <a:ea typeface="Times New Roman"/>
              </a:rPr>
              <a:t>	</a:t>
            </a:r>
            <a:r>
              <a:rPr b="0" lang="es-ES" sz="1600" spc="-1" strike="noStrike">
                <a:solidFill>
                  <a:srgbClr val="3333cc"/>
                </a:solidFill>
                <a:latin typeface="Arial"/>
                <a:ea typeface="Times New Roman"/>
              </a:rPr>
              <a:t>► </a:t>
            </a:r>
            <a:r>
              <a:rPr b="1" lang="es-ES" sz="1600" spc="-1" strike="noStrike">
                <a:solidFill>
                  <a:srgbClr val="3333cc"/>
                </a:solidFill>
                <a:latin typeface="Arial"/>
                <a:ea typeface="Times New Roman"/>
              </a:rPr>
              <a:t>Inclusión</a:t>
            </a:r>
            <a:r>
              <a:rPr b="0" lang="es-ES" sz="1600" spc="-1" strike="noStrike">
                <a:solidFill>
                  <a:srgbClr val="3333cc"/>
                </a:solidFill>
                <a:latin typeface="Arial"/>
                <a:ea typeface="Times New Roman"/>
              </a:rPr>
              <a:t>  en el programa de visitas a centros o instituciones  que </a:t>
            </a:r>
            <a:r>
              <a:rPr b="0" lang="es-ES" sz="1600" spc="-1" strike="noStrike">
                <a:solidFill>
                  <a:srgbClr val="3333cc"/>
                </a:solidFill>
                <a:latin typeface="Arial"/>
              </a:rPr>
              <a:t>participan o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3333cc"/>
                </a:solidFill>
                <a:latin typeface="Arial"/>
              </a:rPr>
              <a:t>     </a:t>
            </a:r>
            <a:r>
              <a:rPr b="0" lang="es-ES" sz="1600" spc="-1" strike="noStrike">
                <a:solidFill>
                  <a:srgbClr val="3333cc"/>
                </a:solidFill>
                <a:latin typeface="Arial"/>
              </a:rPr>
              <a:t>coordinan  proyectos de los programas sectoriales Leonardo, Comenius, Grundtvig….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cc"/>
                </a:solidFill>
                <a:latin typeface="Arial"/>
                <a:ea typeface="Times New Roman"/>
              </a:rPr>
              <a:t>	</a:t>
            </a:r>
            <a:r>
              <a:rPr b="0" lang="es-ES" sz="1600" spc="-1" strike="noStrike">
                <a:solidFill>
                  <a:srgbClr val="3333cc"/>
                </a:solidFill>
                <a:latin typeface="Arial"/>
                <a:ea typeface="Times New Roman"/>
              </a:rPr>
              <a:t>► </a:t>
            </a:r>
            <a:r>
              <a:rPr b="1" lang="es-ES" sz="1600" spc="-1" strike="noStrike">
                <a:solidFill>
                  <a:srgbClr val="3333cc"/>
                </a:solidFill>
                <a:latin typeface="Arial"/>
                <a:ea typeface="Times New Roman"/>
              </a:rPr>
              <a:t>Participación</a:t>
            </a:r>
            <a:r>
              <a:rPr b="0" lang="es-ES" sz="1600" spc="-1" strike="noStrike">
                <a:solidFill>
                  <a:srgbClr val="3333cc"/>
                </a:solidFill>
                <a:latin typeface="Arial"/>
                <a:ea typeface="Times New Roman"/>
              </a:rPr>
              <a:t> en otras movilidades individuales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cc"/>
                </a:solidFill>
                <a:latin typeface="Arial"/>
                <a:ea typeface="Times New Roman"/>
              </a:rPr>
              <a:t>	</a:t>
            </a:r>
            <a:r>
              <a:rPr b="0" lang="es-ES" sz="1600" spc="-1" strike="noStrike">
                <a:solidFill>
                  <a:srgbClr val="3333cc"/>
                </a:solidFill>
                <a:latin typeface="Arial"/>
                <a:ea typeface="Times New Roman"/>
              </a:rPr>
              <a:t>► </a:t>
            </a:r>
            <a:r>
              <a:rPr b="1" lang="es-ES" sz="1600" spc="-1" strike="noStrike">
                <a:solidFill>
                  <a:srgbClr val="3333cc"/>
                </a:solidFill>
                <a:latin typeface="Arial"/>
                <a:ea typeface="Times New Roman"/>
              </a:rPr>
              <a:t>Organización</a:t>
            </a:r>
            <a:r>
              <a:rPr b="0" lang="es-ES" sz="1600" spc="-1" strike="noStrike">
                <a:solidFill>
                  <a:srgbClr val="3333cc"/>
                </a:solidFill>
                <a:latin typeface="Arial"/>
                <a:ea typeface="Times New Roman"/>
              </a:rPr>
              <a:t> de una Visita de estudios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cc"/>
                </a:solidFill>
                <a:latin typeface="Arial"/>
                <a:ea typeface="Times New Roman"/>
              </a:rPr>
              <a:t>	</a:t>
            </a:r>
            <a:r>
              <a:rPr b="0" lang="es-ES" sz="1600" spc="-1" strike="noStrike">
                <a:solidFill>
                  <a:srgbClr val="3333cc"/>
                </a:solidFill>
                <a:latin typeface="Arial"/>
                <a:ea typeface="Times New Roman"/>
              </a:rPr>
              <a:t>► </a:t>
            </a:r>
            <a:r>
              <a:rPr b="1" lang="es-ES" sz="1600" spc="-1" strike="noStrike">
                <a:solidFill>
                  <a:srgbClr val="3333cc"/>
                </a:solidFill>
                <a:latin typeface="Arial"/>
                <a:ea typeface="Times New Roman"/>
              </a:rPr>
              <a:t>Colaboración </a:t>
            </a:r>
            <a:r>
              <a:rPr b="0" lang="es-ES" sz="1600" spc="-1" strike="noStrike">
                <a:solidFill>
                  <a:srgbClr val="3333cc"/>
                </a:solidFill>
                <a:latin typeface="Arial"/>
                <a:ea typeface="Times New Roman"/>
              </a:rPr>
              <a:t> con instituciones europeas para el desarrollo de ideas innovadoras en 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cc"/>
                </a:solidFill>
                <a:latin typeface="Arial"/>
                <a:ea typeface="Times New Roman"/>
              </a:rPr>
              <a:t>	</a:t>
            </a:r>
            <a:r>
              <a:rPr b="0" lang="es-ES" sz="1600" spc="-1" strike="noStrike">
                <a:solidFill>
                  <a:srgbClr val="3333cc"/>
                </a:solidFill>
                <a:latin typeface="Arial"/>
                <a:ea typeface="Times New Roman"/>
              </a:rPr>
              <a:t>     </a:t>
            </a:r>
            <a:r>
              <a:rPr b="0" lang="es-ES" sz="1600" spc="-1" strike="noStrike">
                <a:solidFill>
                  <a:srgbClr val="3333cc"/>
                </a:solidFill>
                <a:latin typeface="Arial"/>
                <a:ea typeface="Times New Roman"/>
              </a:rPr>
              <a:t>materia educativa y de formación profesional.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cc"/>
                </a:solidFill>
                <a:latin typeface="Arial"/>
                <a:ea typeface="Times New Roman"/>
              </a:rPr>
              <a:t>	</a:t>
            </a:r>
            <a:r>
              <a:rPr b="0" lang="es-ES" sz="1600" spc="-1" strike="noStrike">
                <a:solidFill>
                  <a:srgbClr val="3333cc"/>
                </a:solidFill>
                <a:latin typeface="Arial"/>
                <a:ea typeface="Times New Roman"/>
              </a:rPr>
              <a:t>► </a:t>
            </a:r>
            <a:r>
              <a:rPr b="1" lang="es-ES" sz="1600" spc="-1" strike="noStrike">
                <a:solidFill>
                  <a:srgbClr val="3333cc"/>
                </a:solidFill>
                <a:latin typeface="Arial"/>
                <a:ea typeface="Times New Roman"/>
              </a:rPr>
              <a:t>Incorporación</a:t>
            </a:r>
            <a:r>
              <a:rPr b="0" lang="es-ES" sz="1600" spc="-1" strike="noStrike">
                <a:solidFill>
                  <a:srgbClr val="3333cc"/>
                </a:solidFill>
                <a:latin typeface="Arial"/>
                <a:ea typeface="Times New Roman"/>
              </a:rPr>
              <a:t> de nuevas metodologías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cc"/>
                </a:solidFill>
                <a:latin typeface="Arial"/>
                <a:ea typeface="Times New Roman"/>
              </a:rPr>
              <a:t>   </a:t>
            </a:r>
            <a:r>
              <a:rPr b="1" lang="es-ES" sz="1600" spc="-1" strike="noStrike">
                <a:solidFill>
                  <a:srgbClr val="3333cc"/>
                </a:solidFill>
                <a:latin typeface="Arial"/>
                <a:ea typeface="Times New Roman"/>
              </a:rPr>
              <a:t>DIFUSIÓN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3333cc"/>
                </a:solidFill>
                <a:latin typeface="Arial"/>
                <a:ea typeface="Times New Roman"/>
              </a:rPr>
              <a:t>► </a:t>
            </a:r>
            <a:r>
              <a:rPr b="1" lang="es-ES" sz="1600" spc="-1" strike="noStrike">
                <a:solidFill>
                  <a:srgbClr val="3333cc"/>
                </a:solidFill>
                <a:latin typeface="Arial"/>
                <a:ea typeface="Times New Roman"/>
              </a:rPr>
              <a:t>Publicación</a:t>
            </a:r>
            <a:r>
              <a:rPr b="0" lang="es-ES" sz="1600" spc="-1" strike="noStrike">
                <a:solidFill>
                  <a:srgbClr val="3333cc"/>
                </a:solidFill>
                <a:latin typeface="Arial"/>
                <a:ea typeface="Times New Roman"/>
              </a:rPr>
              <a:t> artículos en revistas especializadas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cc"/>
                </a:solidFill>
                <a:latin typeface="Arial"/>
                <a:ea typeface="Times New Roman"/>
              </a:rPr>
              <a:t>	</a:t>
            </a:r>
            <a:r>
              <a:rPr b="0" lang="es-ES" sz="1600" spc="-1" strike="noStrike">
                <a:solidFill>
                  <a:srgbClr val="3333cc"/>
                </a:solidFill>
                <a:latin typeface="Arial"/>
                <a:ea typeface="Times New Roman"/>
              </a:rPr>
              <a:t>► </a:t>
            </a:r>
            <a:r>
              <a:rPr b="1" lang="es-ES" sz="1600" spc="-1" strike="noStrike">
                <a:solidFill>
                  <a:srgbClr val="3333cc"/>
                </a:solidFill>
                <a:latin typeface="Arial"/>
                <a:ea typeface="Times New Roman"/>
              </a:rPr>
              <a:t>Publicación de buenas prácticas</a:t>
            </a:r>
            <a:r>
              <a:rPr b="0" lang="es-ES" sz="1600" spc="-1" strike="noStrike">
                <a:solidFill>
                  <a:srgbClr val="3333cc"/>
                </a:solidFill>
                <a:latin typeface="Arial"/>
                <a:ea typeface="Times New Roman"/>
              </a:rPr>
              <a:t> de personas participantes e instituciones  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cc"/>
                </a:solidFill>
                <a:latin typeface="Arial"/>
                <a:ea typeface="Times New Roman"/>
              </a:rPr>
              <a:t>	</a:t>
            </a:r>
            <a:r>
              <a:rPr b="0" lang="es-ES" sz="1600" spc="-1" strike="noStrike">
                <a:solidFill>
                  <a:srgbClr val="3333cc"/>
                </a:solidFill>
                <a:latin typeface="Arial"/>
                <a:ea typeface="Times New Roman"/>
              </a:rPr>
              <a:t>     </a:t>
            </a:r>
            <a:r>
              <a:rPr b="0" lang="es-ES" sz="1600" spc="-1" strike="noStrike">
                <a:solidFill>
                  <a:srgbClr val="3333cc"/>
                </a:solidFill>
                <a:latin typeface="Arial"/>
                <a:ea typeface="Times New Roman"/>
              </a:rPr>
              <a:t>organizadoras de Visitas de estudio 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cc"/>
                </a:solidFill>
                <a:latin typeface="Arial"/>
                <a:ea typeface="Times New Roman"/>
              </a:rPr>
              <a:t>	</a:t>
            </a:r>
            <a:r>
              <a:rPr b="0" lang="es-ES" sz="1600" spc="-1" strike="noStrike">
                <a:solidFill>
                  <a:srgbClr val="3333cc"/>
                </a:solidFill>
                <a:latin typeface="Arial"/>
                <a:ea typeface="Times New Roman"/>
              </a:rPr>
              <a:t>►</a:t>
            </a:r>
            <a:r>
              <a:rPr b="1" lang="es-ES" sz="1600" spc="-1" strike="noStrike">
                <a:solidFill>
                  <a:srgbClr val="3333cc"/>
                </a:solidFill>
                <a:latin typeface="Arial"/>
                <a:ea typeface="Times New Roman"/>
              </a:rPr>
              <a:t>Participación</a:t>
            </a:r>
            <a:r>
              <a:rPr b="0" lang="es-ES" sz="1600" spc="-1" strike="noStrike">
                <a:solidFill>
                  <a:srgbClr val="3333cc"/>
                </a:solidFill>
                <a:latin typeface="Arial"/>
                <a:ea typeface="Times New Roman"/>
              </a:rPr>
              <a:t> en seminarios internacionales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cc"/>
                </a:solidFill>
                <a:latin typeface="Arial"/>
                <a:ea typeface="Times New Roman"/>
              </a:rPr>
              <a:t>	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979640" y="333360"/>
            <a:ext cx="60530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SUGERENCIAS PARA EL APROVECHAMIENTO DE LA VISITA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692360" y="1341000"/>
            <a:ext cx="674208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9900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Practique la lengua de trabajo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9900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Prepare una breve presentación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9900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Un pequeño regalo para el organizador es una muestra de cortesía habitual en las Visitas de estudio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9900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Lleve información de su área profesional y de su centro u organismo. Es una buena manera de difundir lo que se está haciendo en su país o comunidad en materia educativa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9900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Interésese por las políticas educativas y de formación para el empleo  que se están llevando a cabo en los países de origen de sus compañeros de visita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9900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Amplíe sus relaciones profesionales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9900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Deje a la familia en casa. La Visita de estudio es un viaje de trabajo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9900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Muéstrese participativo, colabore, aprenda, difunda lo aprendido y sobre todo…..¡disfrute la experiencia!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66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116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EVALUACIÓN</a:t>
            </a:r>
            <a:br>
              <a:rPr sz="3600"/>
            </a:br>
            <a:r>
              <a:rPr b="1" lang="en-US" sz="1600" spc="-1" strike="noStrike">
                <a:solidFill>
                  <a:srgbClr val="9900cc"/>
                </a:solidFill>
                <a:latin typeface="Arial"/>
              </a:rPr>
              <a:t>ARTÍCULO 7 (convenio financiero)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547640" y="1916280"/>
            <a:ext cx="7150320" cy="244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9900cc"/>
                </a:solidFill>
                <a:uFillTx/>
                <a:latin typeface="Arial"/>
              </a:rPr>
              <a:t>SEGUIMIENTO: EVALUACIÓN Y CONTRO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cc"/>
                </a:solidFill>
                <a:uFillTx/>
                <a:latin typeface="Arial"/>
              </a:rPr>
              <a:t>Para recibir la financiación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9900cc"/>
                </a:solidFill>
                <a:latin typeface="Arial"/>
              </a:rPr>
              <a:t>Podrán ser requeridas las facturas, justificantes, billetes y otra documentación relativa a la visita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1476000" y="764640"/>
            <a:ext cx="6769080" cy="53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cc0099"/>
                </a:solidFill>
                <a:uFillTx/>
                <a:latin typeface="Arial"/>
              </a:rPr>
              <a:t>En qué consisten las visitas de estudio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3333cc"/>
                </a:solidFill>
                <a:uFillTx/>
                <a:latin typeface="Arial"/>
              </a:rPr>
              <a:t>Es una acción descentralizada gestionada por la Agencia Nacional (OAPEE), en colaboración con la agencia europea CEDEFOP (Centro Europeo de Desarrollo de la Formación profesional)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Consisten en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asistir a una visita organizada en otro país europeo participante en el Programa de aprendizaje permanente.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Se desarrolla en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pequeños grupos,(entre 8 y 15 participantes), procedentes de distintos países europeos que durante periodos de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tres a cinco días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tendrán la oportunidad de debatir, observar e intercambiar perspectivas e ideas sobre cualquier aspecto del ámbito educativo o de formación profesional en un país europeo diferente al suyo.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El idioma de trabajo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de la visita es en su mayoría inglés, francés o alemá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1371600" y="115560"/>
            <a:ext cx="777240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cc0099"/>
                </a:solidFill>
                <a:uFillTx/>
                <a:latin typeface="Arial"/>
              </a:rPr>
              <a:t>VISITAS DE ESTUDIO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87280" y="33300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Arial"/>
              </a:rPr>
              <a:t>Visitas de estudio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403280" y="1125360"/>
            <a:ext cx="735984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EL PROGRAMA COMPRENDE DOS ACTIVIDADE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  <a:ea typeface="Times New Roman"/>
              </a:rPr>
              <a:t>►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  <a:ea typeface="Times New Roman"/>
              </a:rPr>
              <a:t>PARTICIPACIÓN EN VISITAS DE ESTUDIO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  <a:ea typeface="Times New Roman"/>
              </a:rPr>
              <a:t>     </a:t>
            </a:r>
            <a:r>
              <a:rPr b="0" lang="en-US" sz="3600" spc="-1" strike="noStrike">
                <a:solidFill>
                  <a:srgbClr val="3333cc"/>
                </a:solidFill>
                <a:latin typeface="Arial"/>
                <a:ea typeface="Times New Roman"/>
              </a:rPr>
              <a:t>►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  <a:ea typeface="Times New Roman"/>
              </a:rPr>
              <a:t>ORGANIZACIÓN DE VISITAS DE ESTUDIO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66"/>
                </a:solidFill>
                <a:latin typeface="Arial"/>
              </a:rPr>
              <a:t>    </a:t>
            </a: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47280" y="25992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GB" sz="1800" spc="-1" strike="noStrike" u="sng">
                <a:solidFill>
                  <a:srgbClr val="3333cc"/>
                </a:solidFill>
                <a:uFillTx/>
                <a:latin typeface="Arial"/>
              </a:rPr>
              <a:t> </a:t>
            </a:r>
            <a:r>
              <a:rPr b="1" lang="en-GB" sz="1800" spc="-1" strike="noStrike" u="sng">
                <a:solidFill>
                  <a:srgbClr val="3333cc"/>
                </a:solidFill>
                <a:uFillTx/>
                <a:latin typeface="Arial"/>
              </a:rPr>
              <a:t>INSTITUCIONES QUE LES ACOGERÁN</a:t>
            </a:r>
            <a:r>
              <a:rPr b="1" lang="en-GB" sz="1400" spc="-1" strike="noStrike" u="sng">
                <a:solidFill>
                  <a:srgbClr val="3333cc"/>
                </a:solidFill>
                <a:uFillTx/>
                <a:latin typeface="Arial"/>
              </a:rPr>
              <a:t>.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618920" y="1268280"/>
            <a:ext cx="676764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1" lang="en-US" sz="1600" spc="-1" strike="noStrike" u="sng">
                <a:solidFill>
                  <a:srgbClr val="3333cc"/>
                </a:solidFill>
                <a:uFillTx/>
                <a:latin typeface="Arial"/>
              </a:rPr>
              <a:t>Instituciones con responsabilidad en educación y formación</a:t>
            </a:r>
            <a:r>
              <a:rPr b="1" lang="en-US" sz="1600" spc="-1" strike="noStrike">
                <a:solidFill>
                  <a:srgbClr val="9900cc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99"/>
                </a:solidFill>
                <a:latin typeface="Arial"/>
              </a:rPr>
              <a:t>Administraciones  educativas públicas nacionales, autonómicas o locales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99"/>
                </a:solidFill>
                <a:latin typeface="Arial"/>
              </a:rPr>
              <a:t>Entidades de orientación y evaluación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99"/>
                </a:solidFill>
                <a:latin typeface="Arial"/>
              </a:rPr>
              <a:t>Centros de formación del profesorado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99"/>
                </a:solidFill>
                <a:latin typeface="Arial"/>
              </a:rPr>
              <a:t>Servicios de inspección educativa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99"/>
                </a:solidFill>
                <a:latin typeface="Arial"/>
              </a:rPr>
              <a:t>Asociaciones de formación y educación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99"/>
                </a:solidFill>
                <a:latin typeface="Arial"/>
              </a:rPr>
              <a:t>Oficinas de empleo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99"/>
                </a:solidFill>
                <a:latin typeface="Arial"/>
              </a:rPr>
              <a:t>Cámaras de comercio e industria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99"/>
                </a:solidFill>
                <a:latin typeface="Arial"/>
              </a:rPr>
              <a:t>Organizaciones empresariales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99"/>
                </a:solidFill>
                <a:latin typeface="Arial"/>
              </a:rPr>
              <a:t>Institutos de investigación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99"/>
                </a:solidFill>
                <a:latin typeface="Arial"/>
              </a:rPr>
              <a:t>Fundaciones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9900cc"/>
                </a:solidFill>
                <a:latin typeface="Arial"/>
              </a:rPr>
              <a:t>ORGANIZADORE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14400" y="1483920"/>
            <a:ext cx="82296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AYUDA DE FINANCIACIÓN A INSTITUCIONES ORGANIZADORAS DE VISITAS EN ESPAÑA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cc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66"/>
                </a:solidFill>
                <a:latin typeface="Arial"/>
              </a:rPr>
              <a:t>1.900, 00 Euro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Para COFINANCIAR: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Gastos de desplazamientos, comidas, visitas culturales, material, etc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cc"/>
                </a:solidFill>
                <a:latin typeface="Arial"/>
              </a:rPr>
              <a:t>RESPONSABILIDADES</a:t>
            </a:r>
            <a:br>
              <a:rPr sz="2000"/>
            </a:br>
            <a:r>
              <a:rPr b="1" lang="en-US" sz="2000" spc="-1" strike="noStrike">
                <a:solidFill>
                  <a:srgbClr val="9900cc"/>
                </a:solidFill>
                <a:latin typeface="Arial"/>
              </a:rPr>
              <a:t>ORGANIZADORE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44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cc"/>
                </a:solidFill>
                <a:latin typeface="Arial"/>
              </a:rPr>
              <a:t>Consultar el Handbook del organizador (disponible en español en la página del CEDEFOP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cc"/>
                </a:solidFill>
                <a:latin typeface="Arial"/>
              </a:rPr>
              <a:t>Elaborar un programa equilibrado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cc"/>
                </a:solidFill>
                <a:latin typeface="Arial"/>
              </a:rPr>
              <a:t>Proporcionar a la AN programa de la visita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cc"/>
                </a:solidFill>
                <a:latin typeface="Arial"/>
              </a:rPr>
              <a:t>Reservar un alojamiento adecuado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cc"/>
                </a:solidFill>
                <a:latin typeface="Arial"/>
              </a:rPr>
              <a:t>Informarse del perfil profesional de todos sus participantes en la base “Olive” del Cedefop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cc"/>
                </a:solidFill>
                <a:latin typeface="Arial"/>
              </a:rPr>
              <a:t>Contactar con los participantes al menos dos meses antes de la celebración de la visita y remitirles el programa previsto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cc"/>
                </a:solidFill>
                <a:latin typeface="Arial"/>
              </a:rPr>
              <a:t>Responder a las dudas que les plantean sus participante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cc"/>
                </a:solidFill>
                <a:latin typeface="Arial"/>
              </a:rPr>
              <a:t>Proporcionar soporte logístico a los participantes y darles la información que requieran acerca de los contenidos de la visita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cc"/>
                </a:solidFill>
                <a:latin typeface="Arial"/>
              </a:rPr>
              <a:t>No todo es trabajo ….. (programe alguna actividad lúdica, visita cultural, etc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cc"/>
                </a:solidFill>
                <a:latin typeface="Arial"/>
              </a:rPr>
              <a:t>RESPONSABILIDADES</a:t>
            </a:r>
            <a:br>
              <a:rPr sz="2000"/>
            </a:br>
            <a:r>
              <a:rPr b="1" lang="en-US" sz="2000" spc="-1" strike="noStrike">
                <a:solidFill>
                  <a:srgbClr val="9900cc"/>
                </a:solidFill>
                <a:latin typeface="Arial"/>
              </a:rPr>
              <a:t>ORGANIZADORE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331640" y="1341360"/>
            <a:ext cx="71276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ontactar con autoridades educativas, representantes de los agentes sociales, etc. con la suficiente antelación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Incluir ponencias o intervenciones de calida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oncertar visitas a centros, organismos o institucion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ontar con una infraestructura que permita un desarrollo provechoso de la visita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Proporcionar a sus participantes un certificado de asistencia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87280" y="259920"/>
            <a:ext cx="76946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9900cc"/>
                </a:solidFill>
                <a:latin typeface="Arial"/>
              </a:rPr>
              <a:t>ORGANIZADORES</a:t>
            </a:r>
            <a:r>
              <a:rPr b="1" lang="en-US" sz="2000" spc="-1" strike="noStrike">
                <a:solidFill>
                  <a:srgbClr val="9900cc"/>
                </a:solidFill>
                <a:latin typeface="Arial"/>
              </a:rPr>
              <a:t>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187280" y="692280"/>
            <a:ext cx="7677360" cy="43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cc"/>
                </a:solidFill>
                <a:latin typeface="Times New Roman"/>
              </a:rPr>
              <a:t>DOCUMENTACIÓN REQUERIDA A LA INSTITUCIÓN ORGANIZADORA PARA PERCIBIR LA AYUD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Certificado de organización de la visita emitido por l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autoridad compet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Programa de la vis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Informe de gru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15640" y="691920"/>
            <a:ext cx="771516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cc"/>
                </a:solidFill>
                <a:latin typeface="Arial"/>
              </a:rPr>
              <a:t>ORGANIZADORE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547280" y="1700280"/>
            <a:ext cx="7272360" cy="32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80000"/>
              </a:lnSpc>
              <a:spcBef>
                <a:spcPts val="451"/>
              </a:spcBef>
              <a:buClr>
                <a:srgbClr val="99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cc"/>
                </a:solidFill>
                <a:latin typeface="Arial"/>
              </a:rPr>
              <a:t>DOCUMENTACIÓN REQUERIDA A LA INSTITUCIÓN ORGANIZADORA PARA RECIBIR LA AYUDA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cc"/>
                </a:solidFill>
                <a:latin typeface="Arial"/>
              </a:rPr>
              <a:t>Certificado Agencia Tributaria de estar al corriente en el pago de sus obligaciones tributarias (</a:t>
            </a:r>
            <a:r>
              <a:rPr b="1" i="1" lang="es-ES" sz="1600" spc="-1" strike="noStrike">
                <a:solidFill>
                  <a:srgbClr val="0000cc"/>
                </a:solidFill>
                <a:latin typeface="Arial"/>
              </a:rPr>
              <a:t>si el organismo no tiene obligación de tributar, certificado que acredite este extremo)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cc"/>
                </a:solidFill>
                <a:latin typeface="Arial"/>
              </a:rPr>
              <a:t>Certificado Tesorería de la Seguridad Social de estar al corriente en el pago de los seguros sociales (</a:t>
            </a:r>
            <a:r>
              <a:rPr b="1" i="1" lang="es-ES" sz="1600" spc="-1" strike="noStrike">
                <a:solidFill>
                  <a:srgbClr val="0000cc"/>
                </a:solidFill>
                <a:latin typeface="Arial"/>
              </a:rPr>
              <a:t>si el organismo no tiene obligación de pago por este concepto, certificado que acredite este extremo)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cc"/>
                </a:solidFill>
                <a:latin typeface="Arial"/>
              </a:rPr>
              <a:t>Cuenta bancaria para realizar el pago-Debe constar de 20 dígitos  y hacer constar la titularidad de la misma (nombre de la institución beneficiaria de la ayuda)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cc"/>
                </a:solidFill>
                <a:latin typeface="Arial"/>
              </a:rPr>
              <a:t>CIF de la institución, centro u organismo organizador (Centro de Recursos, Consejería, etc)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cc"/>
                </a:solidFill>
                <a:latin typeface="Arial"/>
              </a:rPr>
              <a:t>En el caso de que la ayuda se canalice a través de un centro de profesores y recursos, debe adjuntarse un certificado del director del centro en el que conste que el personal que presta servicios en el mismo depende de la correspondiente consejería.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cc"/>
                </a:solidFill>
                <a:latin typeface="Arial"/>
              </a:rPr>
              <a:t>Reconocimiento de la institución como organismo no deudor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6028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cc"/>
                </a:solidFill>
                <a:latin typeface="Arial"/>
              </a:rPr>
              <a:t>VISITAS DE ESTUDIO</a:t>
            </a:r>
            <a:br>
              <a:rPr sz="2000"/>
            </a:br>
            <a:br>
              <a:rPr sz="1200"/>
            </a:br>
            <a:br>
              <a:rPr sz="1400"/>
            </a:br>
            <a:br>
              <a:rPr sz="1400"/>
            </a:b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258560" y="1052280"/>
            <a:ext cx="756108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66"/>
                </a:solidFill>
                <a:uFillTx/>
                <a:latin typeface="Arial"/>
              </a:rPr>
              <a:t>Certificación de la actividad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00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cc"/>
                </a:solidFill>
                <a:latin typeface="Arial"/>
              </a:rPr>
              <a:t>Las Administraciones educativas autonómicas acreditarán al profesorado participante en Visitas de estudio, expidiendo certificado de créditos de formación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00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cc"/>
                </a:solidFill>
                <a:latin typeface="Arial"/>
              </a:rPr>
              <a:t>El </a:t>
            </a:r>
            <a:r>
              <a:rPr b="1" i="1" lang="en-US" sz="2000" spc="-1" strike="noStrike">
                <a:solidFill>
                  <a:srgbClr val="9900cc"/>
                </a:solidFill>
                <a:latin typeface="Arial"/>
              </a:rPr>
              <a:t>Instituto Superior de Formación y Recursos en Red para el Profesorado</a:t>
            </a:r>
            <a:r>
              <a:rPr b="1" lang="en-US" sz="2000" spc="-1" strike="noStrike">
                <a:solidFill>
                  <a:srgbClr val="9900cc"/>
                </a:solidFill>
                <a:latin typeface="Arial"/>
              </a:rPr>
              <a:t> a propuesta de la AN, acreditarán al profesorado adscrito a centros de Ceuta y Melilla y a instituciones u organismos de la Administración central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00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cc"/>
                </a:solidFill>
                <a:latin typeface="Arial"/>
              </a:rPr>
              <a:t>CRÉDITOS- Según nº de horas ( hasta 3 créditos/visita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cc"/>
                </a:solidFill>
                <a:latin typeface="Arial"/>
              </a:rPr>
              <a:t>                                                           </a:t>
            </a:r>
            <a:r>
              <a:rPr b="1" lang="en-US" sz="2000" spc="-1" strike="noStrike">
                <a:solidFill>
                  <a:srgbClr val="9900cc"/>
                </a:solidFill>
                <a:latin typeface="Arial"/>
              </a:rPr>
              <a:t>( 1 crédito= 10 horas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00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cc"/>
                </a:solidFill>
                <a:latin typeface="Arial"/>
              </a:rPr>
              <a:t>CRÉDITOS organizadores visitas (35 horas/visita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CALIDAD DE LAS MOVILIDADES</a:t>
            </a:r>
            <a:br>
              <a:rPr sz="2000"/>
            </a:b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CARTA EUROPEA DE CALIDAD DE LA MOVILIDAD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476360" y="1699920"/>
            <a:ext cx="7284960" cy="40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99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cc"/>
                </a:solidFill>
                <a:latin typeface="Arial"/>
              </a:rPr>
              <a:t>DOCUMENTO DIRIGIDO A ESTADOS MIEMBROS Y A ORGANIZACIONES RESPONSABLES DE LAS ESTANCIAS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NO OLVIDEN QUE LAS ORGANIZACIONES QUE LES ACOGERÁN, DEBERÁN: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Ofrecerles información adecuada antes de la partida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ntar con infraestructura en el país de acogida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Ofrecerles contenidos que respondan al tema propuesto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Elaborar un programa de equilibrado y de calidad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LOS REPRESENTANTES DE ORGANIZACIONES EUROPEAS Y BENEFICIARIOS DE MOVILIDADES EN GENERAL DEBERÁN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nocer la lengua de trabajo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parar la visita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articipar de manera activa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476000" y="620280"/>
            <a:ext cx="7272360" cy="569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es-ES" sz="1200" spc="-1" strike="noStrike" u="sng">
                <a:solidFill>
                  <a:srgbClr val="9900cc"/>
                </a:solidFill>
                <a:uFillTx/>
                <a:latin typeface="Arial"/>
              </a:rPr>
              <a:t>DIRECCIONES DE INTERÉS</a:t>
            </a:r>
            <a:br>
              <a:rPr sz="1200"/>
            </a:br>
            <a:br>
              <a:rPr sz="1200"/>
            </a:br>
            <a:r>
              <a:rPr b="1" lang="es-ES" sz="1200" spc="-1" strike="noStrike" u="sng">
                <a:solidFill>
                  <a:srgbClr val="0000cc"/>
                </a:solidFill>
                <a:uFillTx/>
                <a:latin typeface="Arial"/>
              </a:rPr>
              <a:t> Organismo Autónomo Programas</a:t>
            </a:r>
            <a:r>
              <a:rPr b="1" lang="es-ES" sz="12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s-ES" sz="1200" spc="-1" strike="noStrike" u="sng">
                <a:solidFill>
                  <a:srgbClr val="0000cc"/>
                </a:solidFill>
                <a:uFillTx/>
                <a:latin typeface="Arial"/>
              </a:rPr>
              <a:t>Educativos Europeos</a:t>
            </a:r>
            <a:br>
              <a:rPr sz="1200"/>
            </a:br>
            <a:r>
              <a:rPr b="1" lang="es-ES" sz="1200" spc="-1" strike="noStrike">
                <a:solidFill>
                  <a:srgbClr val="0000cc"/>
                </a:solidFill>
                <a:latin typeface="Arial"/>
              </a:rPr>
              <a:t>Gustavo Fernández Balbuena 13</a:t>
            </a:r>
            <a:br>
              <a:rPr sz="1200"/>
            </a:br>
            <a:r>
              <a:rPr b="1" lang="es-ES" sz="1200" spc="-1" strike="noStrike">
                <a:solidFill>
                  <a:srgbClr val="0000cc"/>
                </a:solidFill>
                <a:latin typeface="Arial"/>
              </a:rPr>
              <a:t>28002 Madrid</a:t>
            </a:r>
            <a:br>
              <a:rPr sz="1200"/>
            </a:br>
            <a:br>
              <a:rPr sz="1200"/>
            </a:br>
            <a:r>
              <a:rPr b="1" lang="es-ES" sz="1000" spc="-1" strike="noStrike" u="sng">
                <a:solidFill>
                  <a:srgbClr val="0000cc"/>
                </a:solidFill>
                <a:uFillTx/>
                <a:latin typeface="Arial"/>
              </a:rPr>
              <a:t>Información general</a:t>
            </a:r>
            <a:br>
              <a:rPr sz="1200"/>
            </a:br>
            <a:br>
              <a:rPr sz="1200"/>
            </a:br>
            <a:r>
              <a:rPr b="1" lang="es-ES" sz="1200" spc="-1" strike="noStrike">
                <a:solidFill>
                  <a:srgbClr val="0000cc"/>
                </a:solidFill>
                <a:latin typeface="Arial"/>
              </a:rPr>
              <a:t>oapee</a:t>
            </a:r>
            <a:r>
              <a:rPr b="1" i="1" lang="es-ES" sz="1200" spc="-1" strike="noStrike">
                <a:solidFill>
                  <a:srgbClr val="0000cc"/>
                </a:solidFill>
                <a:latin typeface="Arial"/>
              </a:rPr>
              <a:t>@oapee.es</a:t>
            </a:r>
            <a:br>
              <a:rPr sz="1200"/>
            </a:br>
            <a:br>
              <a:rPr sz="1200"/>
            </a:br>
            <a:r>
              <a:rPr b="1" lang="es-ES" sz="1000" spc="-1" strike="noStrike" u="sng">
                <a:solidFill>
                  <a:srgbClr val="0000cc"/>
                </a:solidFill>
                <a:uFillTx/>
                <a:latin typeface="Arial"/>
              </a:rPr>
              <a:t>Cristina Figueroa</a:t>
            </a:r>
            <a:br>
              <a:rPr sz="1000"/>
            </a:br>
            <a:r>
              <a:rPr b="1" i="1" lang="es-ES" sz="1000" spc="-1" strike="noStrike">
                <a:solidFill>
                  <a:srgbClr val="0000cc"/>
                </a:solidFill>
                <a:latin typeface="Arial"/>
              </a:rPr>
              <a:t>cristina.figueroa@oapee.es</a:t>
            </a:r>
            <a:br>
              <a:rPr sz="1000"/>
            </a:br>
            <a:r>
              <a:rPr b="1" i="1" lang="es-ES" sz="1200" spc="-1" strike="noStrike">
                <a:solidFill>
                  <a:srgbClr val="0000cc"/>
                </a:solidFill>
                <a:latin typeface="Arial"/>
              </a:rPr>
              <a:t> </a:t>
            </a:r>
            <a:br>
              <a:rPr sz="1200"/>
            </a:br>
            <a:r>
              <a:rPr b="1" i="1" lang="es-ES" sz="1200" spc="-1" strike="noStrike">
                <a:solidFill>
                  <a:srgbClr val="0000cc"/>
                </a:solidFill>
                <a:latin typeface="Arial"/>
              </a:rPr>
              <a:t> Web: </a:t>
            </a:r>
            <a:r>
              <a:rPr b="1" lang="es-ES" sz="1200" spc="-1" strike="noStrike" u="sng">
                <a:solidFill>
                  <a:srgbClr val="0000cc"/>
                </a:solidFill>
                <a:uFillTx/>
                <a:latin typeface="Arial"/>
              </a:rPr>
              <a:t>www,oapee.es</a:t>
            </a:r>
            <a:br>
              <a:rPr sz="1200"/>
            </a:br>
            <a:r>
              <a:rPr b="1" lang="es-ES" sz="1200" spc="-1" strike="noStrike" u="sng">
                <a:solidFill>
                  <a:srgbClr val="0000cc"/>
                </a:solidFill>
                <a:uFillTx/>
                <a:latin typeface="Arial"/>
              </a:rPr>
              <a:t>CEDEFOP</a:t>
            </a:r>
            <a:r>
              <a:rPr b="1" lang="es-ES" sz="1800" spc="-1" strike="noStrike">
                <a:solidFill>
                  <a:srgbClr val="0000cc"/>
                </a:solidFill>
                <a:latin typeface="Arial"/>
              </a:rPr>
              <a:t> </a:t>
            </a:r>
            <a:br>
              <a:rPr sz="1800"/>
            </a:br>
            <a:r>
              <a:rPr b="1" lang="es-ES" sz="1400" spc="-1" strike="noStrike">
                <a:solidFill>
                  <a:srgbClr val="0000cc"/>
                </a:solidFill>
                <a:latin typeface="Arial"/>
              </a:rPr>
              <a:t>http://studyvisits.cedefop.europa.eu</a:t>
            </a:r>
            <a:br>
              <a:rPr sz="1800"/>
            </a:b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86920" y="765000"/>
            <a:ext cx="7162920" cy="398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c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cc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1476000" y="765000"/>
            <a:ext cx="67690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Objetivo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Cooperación europea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Intercambio de información y  experiencias entre especialistas en educación y  formación profesiona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Conocer políticas europeas en materia educativa y de formación profesiona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1371600" y="115560"/>
            <a:ext cx="777240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cc0099"/>
                </a:solidFill>
                <a:uFillTx/>
                <a:latin typeface="Arial"/>
              </a:rPr>
              <a:t>VISITAS DE ESTUDIO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1476360" y="765000"/>
            <a:ext cx="691200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Objetivo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Permitir que los responsables de la educación a nivel local, regional o nacional puedan compartir, revisar y modificar metodologías y herramientas  a través de la observación y el conocimiento de las estructuras educativas y las reformas en otros Estados miembro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Intercambio de ideas entre todos los participantes del programa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Aumentar la información sobre educación y difundirla entre los responsables político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Reforzar la dimensión europea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1371600" y="-360"/>
            <a:ext cx="777240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cc0099"/>
                </a:solidFill>
                <a:uFillTx/>
                <a:latin typeface="Arial"/>
              </a:rPr>
              <a:t>VISITAS DE ESTUDIO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476360" y="3333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GB" sz="1400" spc="-1" strike="noStrike" u="sng">
                <a:solidFill>
                  <a:srgbClr val="ff0066"/>
                </a:solidFill>
                <a:uFillTx/>
                <a:latin typeface="Arial"/>
              </a:rPr>
              <a:t> </a:t>
            </a:r>
            <a:r>
              <a:rPr b="1" lang="en-GB" sz="2400" spc="-1" strike="noStrike" u="sng">
                <a:solidFill>
                  <a:srgbClr val="cc0099"/>
                </a:solidFill>
                <a:uFillTx/>
                <a:latin typeface="Arial"/>
              </a:rPr>
              <a:t>TIPOS DE VISITAS</a:t>
            </a:r>
            <a:r>
              <a:rPr b="1" lang="en-GB" sz="1400" spc="-1" strike="noStrike" u="sng">
                <a:solidFill>
                  <a:srgbClr val="ff0066"/>
                </a:solidFill>
                <a:uFillTx/>
                <a:latin typeface="Arial"/>
              </a:rPr>
              <a:t> 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476360" y="2204640"/>
            <a:ext cx="6934320" cy="28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Arial"/>
              </a:rPr>
              <a:t>Visitas educación general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Arial"/>
              </a:rPr>
              <a:t>Visitas VET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Arial"/>
              </a:rPr>
              <a:t>Visitas mixed</a:t>
            </a:r>
            <a:r>
              <a:rPr b="0" lang="es-ES" sz="3200" spc="-1" strike="noStrike">
                <a:solidFill>
                  <a:srgbClr val="9900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cc0099"/>
                </a:solidFill>
                <a:uFillTx/>
                <a:latin typeface="Arial"/>
              </a:rPr>
              <a:t>ASISTENTES A UNA VISITA DE ESTUDIO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258560" y="1773360"/>
            <a:ext cx="756108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Arial"/>
              </a:rPr>
              <a:t>Su perfil profesional debe corresponderse con la temática de la visita a la que desea asistir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Arial"/>
              </a:rPr>
              <a:t>Debe tener capacidad multiplicadora y compromiso para difundir las conclusiones de la actividad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Arial"/>
              </a:rPr>
              <a:t>Capacidad de generar impacto posterior y de incorporar estrategias y metodologías a su actividad profesiona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Arial"/>
              </a:rPr>
              <a:t>Debe tener potencial para contribuir al intercambio, la cooperación y la innovación de las políticas de educación y formación profesional en Europa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7164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cc"/>
                </a:solidFill>
                <a:latin typeface="Arial"/>
              </a:rPr>
              <a:t>FINANCIACIÓN DE LA ACTIVIDAD</a:t>
            </a:r>
            <a:br>
              <a:rPr sz="2000"/>
            </a:br>
            <a:r>
              <a:rPr b="1" lang="en-US" sz="2000" spc="-1" strike="noStrike">
                <a:solidFill>
                  <a:srgbClr val="9900cc"/>
                </a:solidFill>
                <a:latin typeface="Arial"/>
              </a:rPr>
              <a:t>(todos los destinos excepto territorios ultramar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90720" y="1844280"/>
            <a:ext cx="77724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66"/>
                </a:solidFill>
                <a:latin typeface="Arial"/>
              </a:rPr>
              <a:t>1.350, 00 Euro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Para COFINANCIAR: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Desplazamiento y visados de entrada/salida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Estancia (manutención y alojamiento) incluido el seguro de viaje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cc"/>
                </a:solidFill>
                <a:latin typeface="Arial"/>
              </a:rPr>
              <a:t>FINANCIACIÓN DE LA ACTIVIDAD</a:t>
            </a:r>
            <a:br>
              <a:rPr sz="2000"/>
            </a:br>
            <a:r>
              <a:rPr b="1" lang="en-US" sz="2000" spc="-1" strike="noStrike">
                <a:solidFill>
                  <a:srgbClr val="9900cc"/>
                </a:solidFill>
                <a:latin typeface="Arial"/>
              </a:rPr>
              <a:t>( </a:t>
            </a:r>
            <a:r>
              <a:rPr b="1" lang="en-US" sz="1600" spc="-1" strike="noStrike">
                <a:solidFill>
                  <a:srgbClr val="9900cc"/>
                </a:solidFill>
                <a:latin typeface="Arial"/>
              </a:rPr>
              <a:t>para beneficiarios con destino territorios ultramar</a:t>
            </a:r>
            <a:br>
              <a:rPr sz="1600"/>
            </a:br>
            <a:r>
              <a:rPr b="1" lang="en-US" sz="1600" spc="-1" strike="noStrike">
                <a:solidFill>
                  <a:srgbClr val="9900cc"/>
                </a:solidFill>
                <a:latin typeface="Arial"/>
              </a:rPr>
              <a:t>y beneficiarios con origen en las Islas Canarias</a:t>
            </a:r>
            <a:r>
              <a:rPr b="1" lang="en-US" sz="2000" spc="-1" strike="noStrike">
                <a:solidFill>
                  <a:srgbClr val="9900cc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90720" y="1844280"/>
            <a:ext cx="77724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66"/>
                </a:solidFill>
                <a:latin typeface="Arial"/>
              </a:rPr>
              <a:t>1.550, 00 Euro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Para COFINANCIAR: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Desplazamiento y visados de entrada/salida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Estancia (manutención y alojamiento) incluido el seguro de viaje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cc"/>
                </a:solidFill>
                <a:latin typeface="Arial"/>
              </a:rPr>
              <a:t>PERIODOS DE PAGO</a:t>
            </a:r>
            <a:br>
              <a:rPr sz="2400"/>
            </a:b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90720" y="1844280"/>
            <a:ext cx="77724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cc"/>
                </a:solidFill>
                <a:uFillTx/>
                <a:latin typeface="Arial"/>
              </a:rPr>
              <a:t>Financiación anticipada ( 80% de la ayuda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lazo: 45 días naturales a partir de la entrada en vigor del convenio (a la firma de la última de ambas partes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   </a:t>
            </a:r>
            <a:r>
              <a:rPr b="1" lang="en-US" sz="2400" spc="-1" strike="noStrike" u="sng">
                <a:solidFill>
                  <a:srgbClr val="0000cc"/>
                </a:solidFill>
                <a:uFillTx/>
                <a:latin typeface="Arial"/>
              </a:rPr>
              <a:t>Pago final (hasta un máximo 20% de la ayuda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lazo: 45 días naturales desde la aprobación de la documentación fina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1T11:46:44Z</dcterms:created>
  <dc:creator>cecilia.baquero</dc:creator>
  <dc:description/>
  <dc:language>en-US</dc:language>
  <cp:lastModifiedBy>TANDEM</cp:lastModifiedBy>
  <dcterms:modified xsi:type="dcterms:W3CDTF">2013-09-11T18:48:32Z</dcterms:modified>
  <cp:revision>37</cp:revision>
  <dc:subject/>
  <dc:title>Presentación de PowerPoint</dc:title>
</cp:coreProperties>
</file>