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B3EA-4BE4-47CE-91DD-AEFBBEAC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A208-573C-4721-AD8B-9AB73051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FB47-D2B0-46C6-891B-9146E73B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DA3C-F03C-4BF5-8FCD-73EDAAB8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EA8C-55C2-4394-AC95-59C0064C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7EEB-9028-443C-87C1-8C866853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46F1-5091-4563-A67D-A6EE4AFC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FFAE-6EB5-4328-BBB0-00F6EA8B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51CB-E7AC-43BA-AD76-0C6F4D37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AF74-C56D-4A72-B94B-499D234F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011F-595E-48AA-83C3-2587351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54DD-4E76-4BDB-B7B1-B69A1FC6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22C8-415C-4BE8-AED7-2F6ADDB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18B5-5969-464F-9E6F-099CD52F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6D75-D1A1-42A4-AF7A-2E738B7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DE5B-6011-4C8B-9E85-18C752B6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70A5-312A-4E7A-98E9-D7D40CE7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C697-1332-4F5E-BACC-C62BCCA1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12DF-5D3F-4624-9C99-9400E478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AC27-5A49-436F-BD08-9C0B18E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ADD0-C5B1-44AF-BAD6-2F4D9F54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4D6D-74A8-4765-8EA5-CFC9CAFB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4E08-474E-4632-A5C5-3E3B04E2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BF91-2030-4240-9AD8-E6910E1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484360" y="260280"/>
            <a:ext cx="612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48720" y="304920"/>
            <a:ext cx="395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7992-D6DB-4F34-8B76-0533B336172A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076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68360" y="6308280"/>
            <a:ext cx="4464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292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8BC4-1F33-4561-B37F-550886A2DA9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8702-6B30-4A8F-9AF1-3FA629B28B2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213192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r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uropass Website Re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5873760"/>
            <a:ext cx="2692440" cy="507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58400" y="3382560"/>
            <a:ext cx="69454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Sneak P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5327640"/>
            <a:ext cx="6945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mitris Zavaliadis, Europass Technic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4390920"/>
            <a:ext cx="6945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laga, 10 Ma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esign’s Main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50120" y="1557360"/>
            <a:ext cx="26589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2852640"/>
            <a:ext cx="6119640" cy="1944720"/>
          </a:xfrm>
          <a:prstGeom prst="foldedCorner">
            <a:avLst>
              <a:gd name="adj" fmla="val 125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Improve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4800" spc="-1" strike="noStrike">
                <a:solidFill>
                  <a:srgbClr val="0066ff"/>
                </a:solidFill>
                <a:latin typeface="Arial"/>
              </a:rPr>
              <a:t>User Exper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3C2B-A821-4760-BCFE-78BEA56647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pects of User Experience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5302080"/>
            <a:ext cx="3313080" cy="935280"/>
          </a:xfrm>
          <a:prstGeom prst="wedgeRoundRectCallout">
            <a:avLst>
              <a:gd name="adj1" fmla="val 36439"/>
              <a:gd name="adj2" fmla="val -98046"/>
              <a:gd name="adj3" fmla="val 16667"/>
            </a:avLst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You can’t use what you can’t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9800" y="4581360"/>
            <a:ext cx="2519280" cy="1224000"/>
          </a:xfrm>
          <a:prstGeom prst="wedgeRoundRectCallout">
            <a:avLst>
              <a:gd name="adj1" fmla="val -63800"/>
              <a:gd name="adj2" fmla="val -45717"/>
              <a:gd name="adj3" fmla="val 16667"/>
            </a:avLst>
          </a:prstGeom>
          <a:solidFill>
            <a:srgbClr val="bbe0e3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You can’t use what you can’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2637000"/>
            <a:ext cx="2016360" cy="1655640"/>
          </a:xfrm>
          <a:prstGeom prst="wedgeRoundRectCallout">
            <a:avLst>
              <a:gd name="adj1" fmla="val -71180"/>
              <a:gd name="adj2" fmla="val -10115"/>
              <a:gd name="adj3" fmla="val 16667"/>
            </a:avLst>
          </a:prstGeom>
          <a:solidFill>
            <a:srgbClr val="bbe0e3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00"/>
                </a:solidFill>
                <a:latin typeface="Arial"/>
              </a:rPr>
              <a:t>Humans are visible beings afte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1484280"/>
            <a:ext cx="3241800" cy="865080"/>
          </a:xfrm>
          <a:prstGeom prst="wedgeRoundRectCallout">
            <a:avLst>
              <a:gd name="adj1" fmla="val 32958"/>
              <a:gd name="adj2" fmla="val 83759"/>
              <a:gd name="adj3" fmla="val 16667"/>
            </a:avLst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ase of use is vital but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950080"/>
            <a:ext cx="4321080" cy="577800"/>
          </a:xfrm>
          <a:prstGeom prst="wedgeRoundRectCallout">
            <a:avLst>
              <a:gd name="adj1" fmla="val -41879"/>
              <a:gd name="adj2" fmla="val -148902"/>
              <a:gd name="adj3" fmla="val 16667"/>
            </a:avLst>
          </a:prstGeom>
          <a:solidFill>
            <a:srgbClr val="bbe0e3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Trust is key to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1557360"/>
            <a:ext cx="3095640" cy="576360"/>
          </a:xfrm>
          <a:prstGeom prst="wedgeRoundRectCallout">
            <a:avLst>
              <a:gd name="adj1" fmla="val -57537"/>
              <a:gd name="adj2" fmla="val 66805"/>
              <a:gd name="adj3" fmla="val 16667"/>
            </a:avLst>
          </a:prstGeom>
          <a:solidFill>
            <a:srgbClr val="bbe0e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elevance i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3213000"/>
            <a:ext cx="2376360" cy="1224000"/>
          </a:xfrm>
          <a:prstGeom prst="wedgeRoundRectCallout">
            <a:avLst>
              <a:gd name="adj1" fmla="val 114597"/>
              <a:gd name="adj2" fmla="val -5513"/>
              <a:gd name="adj3" fmla="val 16667"/>
            </a:avLst>
          </a:prstGeom>
          <a:solidFill>
            <a:srgbClr val="bbe0e3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he bottom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deliv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652464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.k.a. the User Experience Honeycomb (Peter Morvil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53EB-257C-4EB1-878D-3B8679C5B3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484520" cy="4286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96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isting Website vs. Honeyco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2560" y="5445000"/>
            <a:ext cx="792360" cy="792360"/>
          </a:xfrm>
          <a:prstGeom prst="smileyFace">
            <a:avLst>
              <a:gd name="adj" fmla="val 23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-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3213000"/>
            <a:ext cx="2160360" cy="1152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cuses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206064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640" y="4797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72428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1989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89320" y="5445000"/>
            <a:ext cx="79236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1341360"/>
            <a:ext cx="792000" cy="79236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89320" y="2781360"/>
            <a:ext cx="792360" cy="7920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5800" y="1844640"/>
            <a:ext cx="1727280" cy="20890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might increase even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4292640"/>
            <a:ext cx="1727280" cy="1584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therefore the over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2B99-7C0F-486C-B333-E04D49D5EB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rt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Usabilit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7FA4-2BF4-4DD0-991A-33FECFA35A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-tu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ic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rch engine 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7EE2-25A0-4BF8-A486-D1E5669C3E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site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site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nstruments redesign spec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ep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Launch of new instruments in parallel with the curren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ec. 201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Old instruments st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63BF-5E7A-4752-A721-3A3428F300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uropass Mobility System Training, Bruss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7B5F-6EC4-4DF3-8199-4EFF4102B1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Nov 2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1:45:30Z</dcterms:created>
  <dc:creator>Zavaliadis Dimitris</dc:creator>
  <dc:description/>
  <dc:language>en-US</dc:language>
  <cp:lastModifiedBy>europassx3</cp:lastModifiedBy>
  <dcterms:modified xsi:type="dcterms:W3CDTF">2011-05-06T18:43:21Z</dcterms:modified>
  <cp:revision>1649</cp:revision>
  <dc:subject/>
  <dc:title>Europass cooperation with external applications</dc:title>
</cp:coreProperties>
</file>