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55600" y="-36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928800" y="744120"/>
            <a:ext cx="4951440" cy="371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55600" y="9410400"/>
            <a:ext cx="2949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6E9C-2D05-4C16-A74F-BAB3B6443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D8A4-E032-46B7-90C6-65CFC4808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EEED-A119-4E3B-AEBF-5D5241EDE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4B9A-398D-4BA1-9214-17C8FBCBD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B46E-F7A0-46BC-B6AC-9E23E4141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347C-EE72-4ADD-A3CE-BFE62995C4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213F-2904-4AA0-9E9A-3F75E83CA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55960" y="9410760"/>
            <a:ext cx="2949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54EC-72C6-4746-AC2C-DE5F130242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51440" cy="37134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0760" y="4703400"/>
            <a:ext cx="54450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7E9-EAA0-4493-B753-E4268397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13A-8C12-4619-A976-2F2D632E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417-7CB8-4249-813D-CAA70079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FD5-0EB8-4F48-AD5E-D16B9EAB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4021-74C0-4EA0-9024-435FDA62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216-5F6B-431C-B7C3-34011157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B56-F774-43E0-AB72-05699FCC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21D-2601-45EC-8374-E3D20637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79640" y="183960"/>
            <a:ext cx="6408720" cy="36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1F03-10F3-47E7-932B-D761D92C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D10-4406-4F86-AC3E-0B7D2EA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1A5-FC50-4100-8F10-31E27EE0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516-CFF4-495E-81A0-576E9FA5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0" y="0"/>
            <a:ext cx="1763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440"/>
            <a:ext cx="1763640" cy="111600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753" h="559">
                <a:moveTo>
                  <a:pt x="0" y="0"/>
                </a:moveTo>
                <a:cubicBezTo>
                  <a:pt x="583" y="0"/>
                  <a:pt x="583" y="0"/>
                  <a:pt x="583" y="0"/>
                </a:cubicBezTo>
                <a:cubicBezTo>
                  <a:pt x="676" y="0"/>
                  <a:pt x="753" y="76"/>
                  <a:pt x="753" y="170"/>
                </a:cubicBezTo>
                <a:cubicBezTo>
                  <a:pt x="753" y="389"/>
                  <a:pt x="753" y="389"/>
                  <a:pt x="753" y="389"/>
                </a:cubicBezTo>
                <a:cubicBezTo>
                  <a:pt x="753" y="483"/>
                  <a:pt x="676" y="559"/>
                  <a:pt x="583" y="559"/>
                </a:cubicBezTo>
                <a:cubicBezTo>
                  <a:pt x="0" y="559"/>
                  <a:pt x="0" y="559"/>
                  <a:pt x="0" y="55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915480" y="6237000"/>
            <a:ext cx="172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D8CC-DEC9-4E87-A6C2-2A86C675423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eacea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7682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arrows_02"/>
          <p:cNvPicPr/>
          <p:nvPr/>
        </p:nvPicPr>
        <p:blipFill>
          <a:blip r:embed="rId3"/>
          <a:stretch/>
        </p:blipFill>
        <p:spPr>
          <a:xfrm>
            <a:off x="7313760" y="-27000"/>
            <a:ext cx="1830240" cy="13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icon"/>
          <p:cNvPicPr/>
          <p:nvPr/>
        </p:nvPicPr>
        <p:blipFill>
          <a:blip r:embed="rId4"/>
          <a:stretch/>
        </p:blipFill>
        <p:spPr>
          <a:xfrm>
            <a:off x="450720" y="6237360"/>
            <a:ext cx="398520" cy="430200"/>
          </a:xfrm>
          <a:prstGeom prst="rect">
            <a:avLst/>
          </a:prstGeom>
          <a:ln w="0">
            <a:noFill/>
          </a:ln>
        </p:spPr>
      </p:pic>
      <p:sp>
        <p:nvSpPr>
          <p:cNvPr id="11" name="Line 13"/>
          <p:cNvSpPr/>
          <p:nvPr/>
        </p:nvSpPr>
        <p:spPr>
          <a:xfrm>
            <a:off x="450720" y="6165720"/>
            <a:ext cx="824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155700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EUROPASS </a:t>
            </a:r>
            <a:r>
              <a:rPr b="1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6699"/>
                </a:solidFill>
                <a:latin typeface="Arial"/>
              </a:rPr>
              <a:t>2011  </a:t>
            </a: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Management and Financial issues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ACEA – Education, Audiovisual and Culture Executive Agency</a:t>
            </a:r>
            <a:br>
              <a:rPr sz="2400"/>
            </a:br>
            <a:br>
              <a:rPr sz="24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Vyte Ezerskien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Pascale Storme</a:t>
            </a:r>
            <a:br>
              <a:rPr sz="1800"/>
            </a:b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Filip Steppe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315B-F2AC-4308-85A5-A22D79017BF1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Financial report 2011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1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Costs -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 Two type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A. Direct costs (staff, travels, ICT, equipment, operating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B. Indirect costs (eligible only if not covered already by another operating grant,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Revenue part. </a:t>
            </a:r>
            <a:r>
              <a:rPr b="0" lang="fr-BE" sz="2400" spc="-1" strike="noStrike" u="sng">
                <a:solidFill>
                  <a:srgbClr val="336699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C funding limited by the EC decision (see art.1.3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Europass contribu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333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336699"/>
                </a:solidFill>
                <a:latin typeface="Arial"/>
              </a:rPr>
              <a:t>Other sources of incom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6104-3383-4522-BAA4-4335118DFC74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REPORTING :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he beneficiary certifies on his honour that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formation contained in the final report is full, reliable and true,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 costs incurred can be considered eligible in accordance with the grant agreement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costs are substantiated by adequate supporting documents that can be checked.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9B9D-EF0C-4919-9A93-6DA5D204A60A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 costs meet the following criteria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tually incurre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during the du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 as specified in the Grant Decision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nnected with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the subject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the work programm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d they ar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ndicated in the estimate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verall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budget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ork programme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D49F-341B-4554-98B1-075F27ED1274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ecessary for implement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of the WP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dent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verifiabl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, (i.e recorded in the accountancy of the beneficiary, determined according to th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standards of the count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nd to the usual cost-accounting practices of the beneficiary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hey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compl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with the requirements of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applicable tax and social legislations;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2A3E-599F-4C85-967D-1C9FB6382BB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igibility of costs (General Condition n° 9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easonable, justified, comply with the requirements of sound financial management (i.e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economy and efficiency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ccounting/internal auditing procedures must permit direct reconciliation of the costs and revenue declared in respect of the work programme with the corresponding accounting statements and supporting docum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E813-1788-426C-948B-C8F6DB493F86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 (on the payroll of the centr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includes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ctual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salaries plus social security charges and other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statutory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sts, provided that this does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not exceed the average rat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corresponding to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beneficiary's </a:t>
            </a:r>
            <a:r>
              <a:rPr b="1" lang="en-GB" sz="3600" spc="-1" strike="noStrike">
                <a:solidFill>
                  <a:srgbClr val="336699"/>
                </a:solidFill>
                <a:latin typeface="Arial"/>
              </a:rPr>
              <a:t>usual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policy on remuneration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eligible: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bonuses, leased car, expense account schemes, incentive, payments or profit-sharing scheme</a:t>
            </a: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2878-9CF7-411D-A703-42E11DFA65EC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STAFF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09760" indent="-609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Only working days in work plan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Part-time, the pro-rata stated (time sheets, report)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Wages for employees –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employment contrac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Do not include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 ad hoc external staff, which is purchase of services (e.g. </a:t>
            </a:r>
            <a:r>
              <a:rPr b="0" lang="en-GB" sz="2400" spc="-1" strike="noStrike" u="sng">
                <a:solidFill>
                  <a:srgbClr val="336699"/>
                </a:solidFill>
                <a:uFillTx/>
                <a:latin typeface="Arial"/>
              </a:rPr>
              <a:t>service and consultancy contract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Keep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original time-sheets signed (name, function, percentage of time if working on several actions etc.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aff contracts, payslips and related payment document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1E45-5811-41D3-B800-15AAD5223286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staff only (otherwise in “other costs”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Rates must correspond to the beneficiary’s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usual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practices (contract art.9.2 or II.14.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99"/>
                </a:solidFill>
                <a:latin typeface="Arial"/>
              </a:rPr>
              <a:t>D</a:t>
            </a: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aily allowance for each day of meeting (include all costs e.g. meals and local transport, travel and accident insurance)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Number of nights = meeting days + 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Keep all justifying documents &amp; signed mission repor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19E7-0978-4F62-A7AA-FDD0DE5A2FD5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Travel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sistence allowa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ny activities …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igible countries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r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not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ligible". (Section 5.2. Eligible activities)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…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Travels …outside eligible countries … be accepted in exceptional and duly justified cases, i.e.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proven added value in terms of policy and content related to the network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…prior agreement of EACEA … requested... " (ToR section 9.5. Eligible costs, </a:t>
            </a:r>
            <a:r>
              <a:rPr b="0" lang="en-GB" sz="3200" spc="-1" strike="noStrike" u="sng">
                <a:solidFill>
                  <a:srgbClr val="336699"/>
                </a:solidFill>
                <a:uFillTx/>
                <a:latin typeface="Arial"/>
              </a:rPr>
              <a:t>I.B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9E45-A486-47EA-AF1E-DE76DF16099A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Conversion ra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xpenses are converted into EUR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at the monthly accounting rate established by the European Commission and published on its website, for the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first month of the eligibility period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1913-630A-4148-BD8A-8440A1A3C1B3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am in P3, EACEA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ad map 2010 -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ant request 2011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nci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OPERATING COSTS &amp; OVERHEA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A beneficiary may be awarded only one operating grant from the budget per financial year.” - (R.F. Article 111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or centre receiving another operating grant, indirect costs are not eligible under EUROPASS budge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4683-107D-4EA5-9450-37807BC12427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INELIGIBLE CO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 u="sng">
                <a:solidFill>
                  <a:srgbClr val="336699"/>
                </a:solidFill>
                <a:uFillTx/>
                <a:latin typeface="Arial"/>
              </a:rPr>
              <a:t>VAT: Costs must be presented VAT excluded</a:t>
            </a: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, unless you cannot recover it (for private legal entities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UT “By derogation to Article 9.3. of the General Conditions, seventh indent, VAT paid by public bodies shall </a:t>
            </a:r>
            <a:r>
              <a:rPr b="1" lang="nl-BE" sz="3200" spc="-1" strike="noStrike">
                <a:solidFill>
                  <a:srgbClr val="336699"/>
                </a:solidFill>
                <a:latin typeface="Arial"/>
              </a:rPr>
              <a:t>never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be an eligible cost."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336699"/>
                </a:solidFill>
                <a:latin typeface="Arial"/>
              </a:rPr>
              <a:t>Contributions in kin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F782-C0CE-408B-9F83-2698448FC9E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6699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CA8B-84DA-4CFA-B390-5BF90B9BBE95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CEA Europass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Head of Unit (Legal representative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HALLER-BLOCK U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Financi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OPHANSAY Phetsamon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EPPE Filip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STORME Pascale – financial co-ordina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Operational tea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ZERSKIENE Vy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6699"/>
                </a:solidFill>
                <a:latin typeface="Arial"/>
              </a:rPr>
              <a:t>BOTTI Renat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EACEA-EUROPASS@ec.europa.e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rial"/>
              </a:rPr>
              <a:t>3. Road map 2010 – 2011 </a:t>
            </a:r>
            <a:br>
              <a:rPr sz="2400"/>
            </a:br>
            <a:r>
              <a:rPr b="1" lang="fr-BE" sz="2400" spc="-1" strike="noStrike">
                <a:solidFill>
                  <a:srgbClr val="ff9900"/>
                </a:solidFill>
                <a:latin typeface="Arial"/>
              </a:rPr>
              <a:t>(May-November 2011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267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agreements/decisions 2011 (all done except 3 suspended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ril –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prefinancing 80% (will be finalised mid May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ober/November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October 2011 – Terms of Reference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Mid November 2011 – DEADLINE - Grant request (GRF) 2012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Synthesis Report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8 –  will be disseminated in May 2011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- Synthesis report 2009 – being drafted (July 2011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ant applications 20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34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grant application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ew centres: 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Croatia, Malt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requested: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067.162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Grant available: 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2.160.000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nal Reports 20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ll final reports receive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Final Grant requested: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1.914.629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Max Grant available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:    </a:t>
            </a:r>
            <a:r>
              <a:rPr b="1" lang="en-GB" sz="3200" spc="-1" strike="noStrike">
                <a:solidFill>
                  <a:srgbClr val="ff9933"/>
                </a:solidFill>
                <a:latin typeface="Arial"/>
              </a:rPr>
              <a:t>2.100.000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 Eur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Evaluation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May-Ju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Payment of final balance </a:t>
            </a: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end May-mid Jul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42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Logo of Lifelong Learning Programme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cknowledge - European Union's contribution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NO LLP logo → grant may be reduced or agreement/decision terminated (article 10.4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624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Financial and contractual issu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9640" y="183960"/>
            <a:ext cx="6408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IGIBLE BENEFICIA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designated bodies can be signatory of  the EC EUROPASS Decisions/agreements and receive the funds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Only the beneficiary that receive the grant and which receive the funds can charge its costs in the frame of its Europass contract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-10 May 2011, Mal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CE02-1738-4B04-B459-7AEA7645A880}" type="slidenum">
              <a:rPr b="0" lang="en-GB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0:44:45Z</dcterms:created>
  <dc:creator>bruyaol</dc:creator>
  <dc:description/>
  <dc:language>en-US</dc:language>
  <cp:lastModifiedBy>sadia.khokhar</cp:lastModifiedBy>
  <dcterms:modified xsi:type="dcterms:W3CDTF">2011-05-12T09:30:42Z</dcterms:modified>
  <cp:revision>195</cp:revision>
  <dc:subject/>
  <dc:title>Welcome ! </dc:title>
</cp:coreProperties>
</file>