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APEE"/>
          <p:cNvPicPr/>
          <p:nvPr/>
        </p:nvPicPr>
        <p:blipFill>
          <a:blip r:embed="rId2"/>
          <a:stretch/>
        </p:blipFill>
        <p:spPr>
          <a:xfrm>
            <a:off x="6665760" y="6443640"/>
            <a:ext cx="1219320" cy="2620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2"/>
          <p:cNvSpPr/>
          <p:nvPr/>
        </p:nvSpPr>
        <p:spPr>
          <a:xfrm rot="10800000">
            <a:off x="0" y="620640"/>
            <a:ext cx="990720" cy="6237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ganismo Autónomo Progra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ducativos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urop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3"/>
          <p:cNvSpPr/>
          <p:nvPr/>
        </p:nvSpPr>
        <p:spPr>
          <a:xfrm rot="10800000">
            <a:off x="1219320" y="177480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4" descr="pap_azul_clarito_baja"/>
          <p:cNvPicPr/>
          <p:nvPr/>
        </p:nvPicPr>
        <p:blipFill>
          <a:blip r:embed="rId3"/>
          <a:stretch/>
        </p:blipFill>
        <p:spPr>
          <a:xfrm>
            <a:off x="6276960" y="76320"/>
            <a:ext cx="2790720" cy="1177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5" descr="educacion calidad baja"/>
          <p:cNvPicPr/>
          <p:nvPr/>
        </p:nvPicPr>
        <p:blipFill>
          <a:blip r:embed="rId4"/>
          <a:stretch/>
        </p:blipFill>
        <p:spPr>
          <a:xfrm>
            <a:off x="7980480" y="6421320"/>
            <a:ext cx="1055520" cy="28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logo-europass"/>
          <p:cNvPicPr/>
          <p:nvPr/>
        </p:nvPicPr>
        <p:blipFill>
          <a:blip r:embed="rId5"/>
          <a:stretch/>
        </p:blipFill>
        <p:spPr>
          <a:xfrm>
            <a:off x="0" y="0"/>
            <a:ext cx="1219320" cy="704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escudo-ministerio"/>
          <p:cNvPicPr/>
          <p:nvPr/>
        </p:nvPicPr>
        <p:blipFill>
          <a:blip r:embed="rId6"/>
          <a:stretch/>
        </p:blipFill>
        <p:spPr>
          <a:xfrm>
            <a:off x="1042920" y="6381720"/>
            <a:ext cx="1513080" cy="360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575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NATIONAL EUROPASS CENTRE </a:t>
            </a:r>
            <a:br>
              <a:rPr sz="3600"/>
            </a:b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MEETING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" sz="3200" spc="-1" strike="noStrike">
                <a:solidFill>
                  <a:srgbClr val="3333cc"/>
                </a:solidFill>
                <a:latin typeface="Calibri"/>
              </a:rPr>
              <a:t>Málaga, 11-12th April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7272360" cy="4896000"/>
          </a:xfrm>
          <a:prstGeom prst="rect">
            <a:avLst/>
          </a:prstGeom>
          <a:ln w="0">
            <a:noFill/>
          </a:ln>
        </p:spPr>
      </p:pic>
      <p:sp>
        <p:nvSpPr>
          <p:cNvPr id="68" name="Line 3"/>
          <p:cNvSpPr/>
          <p:nvPr/>
        </p:nvSpPr>
        <p:spPr>
          <a:xfrm>
            <a:off x="4716360" y="3933720"/>
            <a:ext cx="1727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443640" y="4437000"/>
            <a:ext cx="1630440" cy="11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Select the doc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77770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  <a:ea typeface="Calibri"/>
              </a:rPr>
              <a:t>Management and Coordination of EUROPASS Docume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  <a:ea typeface="Calibri"/>
              </a:rPr>
              <a:t>Data and challe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990720" y="3808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066680" y="1295280"/>
            <a:ext cx="4114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5 Documen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1523880" y="2209680"/>
            <a:ext cx="2471760" cy="14479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5638680" y="1916280"/>
            <a:ext cx="3200400" cy="20174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940360" y="2349360"/>
            <a:ext cx="2590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uropass Language Pas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 rot="10800000">
            <a:off x="7884720" y="3500280"/>
            <a:ext cx="863640" cy="2044800"/>
          </a:xfrm>
          <a:custGeom>
            <a:avLst/>
            <a:gdLst>
              <a:gd name="textAreaLeft" fmla="*/ 496800 w 863640"/>
              <a:gd name="textAreaRight" fmla="*/ 771480 w 863640"/>
              <a:gd name="textAreaTop" fmla="*/ 384840 h 2044800"/>
              <a:gd name="textAreaBottom" fmla="*/ 765720 h 2044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625" y="0"/>
                </a:lnTo>
                <a:lnTo>
                  <a:pt x="14625" y="4068"/>
                </a:lnTo>
                <a:lnTo>
                  <a:pt x="12427" y="4068"/>
                </a:lnTo>
                <a:cubicBezTo>
                  <a:pt x="5564" y="4068"/>
                  <a:pt x="0" y="7690"/>
                  <a:pt x="0" y="12158"/>
                </a:cubicBezTo>
                <a:lnTo>
                  <a:pt x="0" y="21600"/>
                </a:lnTo>
                <a:lnTo>
                  <a:pt x="4111" y="21600"/>
                </a:lnTo>
                <a:lnTo>
                  <a:pt x="4111" y="12158"/>
                </a:lnTo>
                <a:cubicBezTo>
                  <a:pt x="4111" y="9911"/>
                  <a:pt x="7834" y="8090"/>
                  <a:pt x="12427" y="8090"/>
                </a:cubicBezTo>
                <a:lnTo>
                  <a:pt x="14625" y="8090"/>
                </a:lnTo>
                <a:lnTo>
                  <a:pt x="14625" y="1215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Subtítulo"/>
          <p:cNvSpPr/>
          <p:nvPr/>
        </p:nvSpPr>
        <p:spPr>
          <a:xfrm>
            <a:off x="2514600" y="4267080"/>
            <a:ext cx="5334120" cy="16765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You can fill in, following the </a:t>
            </a:r>
            <a:r>
              <a:rPr b="1" i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nline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instructions and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You can update your data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143000" y="2209680"/>
            <a:ext cx="457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193000" y="21337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 flipV="1">
            <a:off x="1692360" y="3428280"/>
            <a:ext cx="822240" cy="2057400"/>
          </a:xfrm>
          <a:custGeom>
            <a:avLst/>
            <a:gdLst>
              <a:gd name="textAreaLeft" fmla="*/ 473040 w 822240"/>
              <a:gd name="textAreaRight" fmla="*/ 730080 w 822240"/>
              <a:gd name="textAreaTop" fmla="*/ 403560 h 2057400"/>
              <a:gd name="textAreaBottom" fmla="*/ 75348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64" y="0"/>
                </a:lnTo>
                <a:lnTo>
                  <a:pt x="13564" y="4242"/>
                </a:lnTo>
                <a:lnTo>
                  <a:pt x="12427" y="4242"/>
                </a:lnTo>
                <a:cubicBezTo>
                  <a:pt x="5564" y="4242"/>
                  <a:pt x="0" y="7786"/>
                  <a:pt x="0" y="12158"/>
                </a:cubicBezTo>
                <a:lnTo>
                  <a:pt x="0" y="21600"/>
                </a:lnTo>
                <a:lnTo>
                  <a:pt x="3755" y="21600"/>
                </a:lnTo>
                <a:lnTo>
                  <a:pt x="3755" y="12158"/>
                </a:lnTo>
                <a:cubicBezTo>
                  <a:pt x="3755" y="9815"/>
                  <a:pt x="7638" y="7916"/>
                  <a:pt x="12427" y="7916"/>
                </a:cubicBezTo>
                <a:lnTo>
                  <a:pt x="13564" y="7916"/>
                </a:lnTo>
                <a:lnTo>
                  <a:pt x="13564" y="12158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908000" y="2492280"/>
            <a:ext cx="16765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uro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C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230480" y="11430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676520" y="1219320"/>
            <a:ext cx="35812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uropass Mo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Docu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371600" y="314172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uropass Supp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187280" y="4005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2 Subtítulo"/>
          <p:cNvSpPr/>
          <p:nvPr/>
        </p:nvSpPr>
        <p:spPr>
          <a:xfrm>
            <a:off x="1763640" y="3933720"/>
            <a:ext cx="2971800" cy="790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Calibri"/>
                <a:ea typeface="Calibri"/>
              </a:rPr>
              <a:t>Certificate Suppl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Subtítulo"/>
          <p:cNvSpPr/>
          <p:nvPr/>
        </p:nvSpPr>
        <p:spPr>
          <a:xfrm>
            <a:off x="1763640" y="5300640"/>
            <a:ext cx="2743200" cy="649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Calibri"/>
                <a:ea typeface="Calibri"/>
              </a:rPr>
              <a:t>Diploma Supplemen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18728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1752480" y="990720"/>
            <a:ext cx="3353040" cy="1447560"/>
          </a:xfrm>
          <a:prstGeom prst="flowChartConnector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435640" y="5157720"/>
            <a:ext cx="31687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  <a:ea typeface="SimSun"/>
              </a:rPr>
              <a:t>High Degree VET (Superior Technici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  <a:ea typeface="SimSun"/>
              </a:rPr>
              <a:t>University Deg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6012000" y="3645000"/>
            <a:ext cx="275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  <a:ea typeface="Calibri"/>
              </a:rPr>
              <a:t>Mid Degree VET- (Technician) and Vocational Professional  Certific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4716360" y="4076640"/>
            <a:ext cx="1366920" cy="457200"/>
          </a:xfrm>
          <a:prstGeom prst="rightArrow">
            <a:avLst>
              <a:gd name="adj1" fmla="val 50000"/>
              <a:gd name="adj2" fmla="val 70813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4500720" y="5373720"/>
            <a:ext cx="934920" cy="457200"/>
          </a:xfrm>
          <a:prstGeom prst="rightArrow">
            <a:avLst>
              <a:gd name="adj1" fmla="val 50000"/>
              <a:gd name="adj2" fmla="val 42564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5796000" y="1125360"/>
            <a:ext cx="2879640" cy="1300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alibri"/>
                <a:ea typeface="SimSun"/>
              </a:rPr>
              <a:t>Issued by the </a:t>
            </a:r>
            <a:r>
              <a:rPr b="1" lang="de-DE" sz="2400" spc="-1" strike="noStrike">
                <a:solidFill>
                  <a:srgbClr val="3333cc"/>
                </a:solidFill>
                <a:latin typeface="Calibri"/>
                <a:ea typeface="SimSun"/>
              </a:rPr>
              <a:t>National Europass Centre (C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 rot="5400000">
            <a:off x="7051680" y="2388960"/>
            <a:ext cx="431640" cy="495360"/>
          </a:xfrm>
          <a:custGeom>
            <a:avLst/>
            <a:gdLst>
              <a:gd name="textAreaLeft" fmla="*/ 67320 w 431640"/>
              <a:gd name="textAreaRight" fmla="*/ 378000 w 431640"/>
              <a:gd name="textAreaTop" fmla="*/ 146160 h 495360"/>
              <a:gd name="textAreaBottom" fmla="*/ 349200 h 495360"/>
            </a:gdLst>
            <a:ahLst/>
            <a:rect l="textAreaLeft" t="textAreaTop" r="textAreaRight" b="textAreaBottom"/>
            <a:pathLst>
              <a:path w="21600" h="21600">
                <a:moveTo>
                  <a:pt x="15029" y="0"/>
                </a:moveTo>
                <a:lnTo>
                  <a:pt x="15029" y="6369"/>
                </a:lnTo>
                <a:lnTo>
                  <a:pt x="3375" y="6369"/>
                </a:lnTo>
                <a:lnTo>
                  <a:pt x="3375" y="15231"/>
                </a:lnTo>
                <a:lnTo>
                  <a:pt x="15029" y="15231"/>
                </a:lnTo>
                <a:lnTo>
                  <a:pt x="15029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6369"/>
                </a:moveTo>
                <a:lnTo>
                  <a:pt x="1350" y="15231"/>
                </a:lnTo>
                <a:lnTo>
                  <a:pt x="2700" y="15231"/>
                </a:lnTo>
                <a:lnTo>
                  <a:pt x="2700" y="6369"/>
                </a:lnTo>
                <a:close/>
              </a:path>
              <a:path w="21600" h="21600">
                <a:moveTo>
                  <a:pt x="0" y="6369"/>
                </a:moveTo>
                <a:lnTo>
                  <a:pt x="0" y="15231"/>
                </a:lnTo>
                <a:lnTo>
                  <a:pt x="675" y="15231"/>
                </a:lnTo>
                <a:lnTo>
                  <a:pt x="675" y="636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5410080" y="2205000"/>
            <a:ext cx="3733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alibri"/>
                <a:ea typeface="SimSun"/>
              </a:rPr>
              <a:t>Depending on OAPEE (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5076720" y="1413000"/>
            <a:ext cx="719280" cy="457200"/>
          </a:xfrm>
          <a:prstGeom prst="rightArrow">
            <a:avLst>
              <a:gd name="adj1" fmla="val 50000"/>
              <a:gd name="adj2" fmla="val 39331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6588000" y="1052640"/>
            <a:ext cx="549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74995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URRICULUM VITAE EURO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downloaded CV examples in 2010: 117.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downloaded CV templates: 226.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hits on the link: 115.000 apr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We will translate Europass CV (template, examples and instructions for completion) to the following languages: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Catalan, Basque and Gal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We are revamping our Europass portal homepage in order to include direct links to CV databases or employment services: EURES, EURODESK, NARIC, EURAXXES, EURO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6438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UROPASS LANGUAGE PAS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43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downloaded LP examples in 2010: 13.7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downloaded LP templates: 14.6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hits on the link: 8.000 apr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We will translate Europass LP (template, examples and instructions for completion) to the following languages: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Catalan, Basque and Gal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We have encouraged the link between the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European Language Portfolio (ELP)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 and the LP (as part of the same) and supported the use of the electronic format of the ELP in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920" y="692280"/>
            <a:ext cx="7561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</a:rPr>
              <a:t>EUROPASS MOBILITY (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downloaded EM examples in 2010: 2.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EM documents issued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by organisational frame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Erasmus: 8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Leonardo da Vinci: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Comenius: 4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Study Visits: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Grundtvig: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EM document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by duration of 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From 4 to 6 months: 16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From 5 to 12 weeks: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Up to 4 weeks: 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From 7 to 9 months: 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116000" y="764640"/>
            <a:ext cx="75708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EM document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by destination count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Italy: 8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France: 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United Kingdom: 3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Portugal: 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Netherlands: 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Belgium: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Malta: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EM document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by gender of hold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Female: 72,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Male: 27,8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umber of EM document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by age of grou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Between 26-35: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Between 21-25: 1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Between 36-45: 200/ Between 15-20: 100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We have developed a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ew computer tool for the management of EM documents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, which has started to operate last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ovember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EM using the new application, from 2009 as of date, has duplicated the issuing of EM documents, which reveals a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substantial increase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in the demand for thi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971640" y="128124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Calibri"/>
                <a:ea typeface="Calibri"/>
              </a:rPr>
              <a:t>Where can I get my Europass Mobility Certificate ?</a:t>
            </a:r>
            <a:r>
              <a:rPr b="1" lang="es-ES" sz="36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187280" y="4068360"/>
            <a:ext cx="7129800" cy="1383480"/>
          </a:xfrm>
          <a:prstGeom prst="flowChartPunchedTap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An application tool centralized  by OAP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oapee.es/europassmobility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042920" y="981000"/>
            <a:ext cx="7489800" cy="2376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211640" y="3357720"/>
            <a:ext cx="79200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Spanish N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Spanish National Agency for Educational Programmes (OAPE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alibri"/>
                <a:ea typeface="Calibri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3200400" y="1125360"/>
            <a:ext cx="5619600" cy="25196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24360" y="1557360"/>
            <a:ext cx="4495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  <a:ea typeface="Calibri"/>
              </a:rPr>
              <a:t>The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Calibri"/>
                <a:ea typeface="Calibri"/>
              </a:rPr>
              <a:t>sending organization</a:t>
            </a:r>
            <a:r>
              <a:rPr b="0" lang="en-GB" sz="2000" spc="-1" strike="noStrike">
                <a:solidFill>
                  <a:srgbClr val="3333cc"/>
                </a:solidFill>
                <a:latin typeface="Calibri"/>
                <a:ea typeface="Calibri"/>
              </a:rPr>
              <a:t> must enter into a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Calibri"/>
              </a:rPr>
              <a:t>written cooperation agreement</a:t>
            </a:r>
            <a:r>
              <a:rPr b="0" lang="en-GB" sz="2000" spc="-1" strike="noStrike">
                <a:solidFill>
                  <a:srgbClr val="3333cc"/>
                </a:solidFill>
                <a:latin typeface="Calibri"/>
                <a:ea typeface="Calibri"/>
              </a:rPr>
              <a:t>, which sets the content, objectives, duration and methodology of the training period, with the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Calibri"/>
                <a:ea typeface="Calibri"/>
              </a:rPr>
              <a:t>host organization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Subtítulo"/>
          <p:cNvSpPr/>
          <p:nvPr/>
        </p:nvSpPr>
        <p:spPr>
          <a:xfrm>
            <a:off x="1042920" y="2205000"/>
            <a:ext cx="160020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Step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627280" y="2276640"/>
            <a:ext cx="695520" cy="304560"/>
          </a:xfrm>
          <a:custGeom>
            <a:avLst/>
            <a:gdLst>
              <a:gd name="textAreaLeft" fmla="*/ 121680 w 695520"/>
              <a:gd name="textAreaRight" fmla="*/ 504360 w 695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979640" y="4221000"/>
            <a:ext cx="6410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Individual applicants cannot apply for the document personally. </a:t>
            </a:r>
            <a:r>
              <a:rPr b="0" lang="en-GB" sz="1800" spc="-1" strike="noStrike" u="sng">
                <a:solidFill>
                  <a:srgbClr val="3333cc"/>
                </a:solidFill>
                <a:uFillTx/>
                <a:latin typeface="Calibri"/>
                <a:ea typeface="Calibri"/>
              </a:rPr>
              <a:t>All applications must be made via the home organisation that arranges the educational or training period with a host organisation in another European country on behalf of the interested party</a:t>
            </a:r>
            <a:r>
              <a:rPr b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644480" y="3809880"/>
            <a:ext cx="6813720" cy="2629080"/>
          </a:xfrm>
          <a:prstGeom prst="flowChartPunchedTap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066680" y="22860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2 Subtítulo"/>
          <p:cNvSpPr/>
          <p:nvPr/>
        </p:nvSpPr>
        <p:spPr>
          <a:xfrm>
            <a:off x="1371600" y="2057400"/>
            <a:ext cx="160020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03640" y="3573360"/>
            <a:ext cx="5562360" cy="2793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The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Calibri"/>
              </a:rPr>
              <a:t>sending organization</a:t>
            </a: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 FILLS the information required by the application too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Information of the hol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Sending organization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Host organization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alibri"/>
              </a:rPr>
              <a:t>Description of the Europass Mobility       experi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Subtítulo"/>
          <p:cNvSpPr/>
          <p:nvPr/>
        </p:nvSpPr>
        <p:spPr>
          <a:xfrm>
            <a:off x="4427640" y="1052640"/>
            <a:ext cx="3878280" cy="1944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The TUTOR (optionally helped by the holder) starts filling the information included in the Europass Mobility Certific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5435640" y="2997360"/>
            <a:ext cx="6858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987640" y="2205000"/>
            <a:ext cx="1657440" cy="287280"/>
          </a:xfrm>
          <a:custGeom>
            <a:avLst/>
            <a:gdLst>
              <a:gd name="textAreaLeft" fmla="*/ 306360 w 1657440"/>
              <a:gd name="textAreaRight" fmla="*/ 1242720 w 165744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8" hR="21600" stAng="10800000" swAng="5400000"/>
                <a:lnTo>
                  <a:pt x="12199" y="0"/>
                </a:lnTo>
                <a:arcTo wR="7988" hR="21600" stAng="-5400000" swAng="1107375"/>
                <a:lnTo>
                  <a:pt x="18964" y="5565"/>
                </a:lnTo>
                <a:lnTo>
                  <a:pt x="18081" y="21600"/>
                </a:lnTo>
                <a:lnTo>
                  <a:pt x="11925" y="5565"/>
                </a:lnTo>
                <a:lnTo>
                  <a:pt x="13339" y="5565"/>
                </a:lnTo>
                <a:arcTo wR="7988" hR="21600" stAng="-4292625" swAng="-761163"/>
                <a:lnTo>
                  <a:pt x="10093" y="764"/>
                </a:lnTo>
                <a:arcTo wR="7988" hR="21600" stAng="-5746212" swAng="-5053788"/>
                <a:close/>
              </a:path>
              <a:path fill="darkenLess" w="21600" h="21600">
                <a:moveTo>
                  <a:pt x="0" y="21600"/>
                </a:moveTo>
                <a:arcTo wR="7988" hR="21600" stAng="10800000" swAng="5400000"/>
                <a:lnTo>
                  <a:pt x="7988" y="0"/>
                </a:lnTo>
                <a:arcTo wR="7988" hR="21600" stAng="-5400000" swAng="346212"/>
                <a:lnTo>
                  <a:pt x="10093" y="764"/>
                </a:lnTo>
                <a:arcTo wR="7988" hR="21600" stAng="-5746212" swAng="-5053788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2 Subtítulo"/>
          <p:cNvSpPr/>
          <p:nvPr/>
        </p:nvSpPr>
        <p:spPr>
          <a:xfrm>
            <a:off x="1143000" y="1676520"/>
            <a:ext cx="1600200" cy="7617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771640" y="1989000"/>
            <a:ext cx="982800" cy="304920"/>
          </a:xfrm>
          <a:custGeom>
            <a:avLst/>
            <a:gdLst>
              <a:gd name="textAreaLeft" fmla="*/ 171720 w 982800"/>
              <a:gd name="textAreaRight" fmla="*/ 712440 w 982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3708360" y="1125360"/>
            <a:ext cx="5105520" cy="1600200"/>
          </a:xfrm>
          <a:prstGeom prst="flowChartAlternateProcess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809880" y="1219320"/>
            <a:ext cx="4953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The sending organization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ENDS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 the Europass Mobility Certificate to the host organiza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990720" y="3048120"/>
            <a:ext cx="8001000" cy="3457440"/>
          </a:xfrm>
          <a:prstGeom prst="flowChartPunchedTap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258920" y="3645000"/>
            <a:ext cx="763740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The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host organization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FILLS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sections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5a or 5b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Description of skills and competences acquired during the Europass Mobility experience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(section 5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Record of courses completed and individual grades/marks/credits obtained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(section 5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GNS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the Europass Mobility (through a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GNING CODE</a:t>
            </a:r>
            <a:r>
              <a:rPr b="0" lang="es-E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) and sends it back to the sending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5400000">
            <a:off x="3795120" y="2763720"/>
            <a:ext cx="835200" cy="723960"/>
          </a:xfrm>
          <a:custGeom>
            <a:avLst/>
            <a:gdLst>
              <a:gd name="textAreaLeft" fmla="*/ 130320 w 835200"/>
              <a:gd name="textAreaRight" fmla="*/ 730800 w 835200"/>
              <a:gd name="textAreaTop" fmla="*/ 181080 h 723960"/>
              <a:gd name="textAreaBottom" fmla="*/ 543240 h 7239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5"/>
          <p:cNvSpPr/>
          <p:nvPr/>
        </p:nvSpPr>
        <p:spPr>
          <a:xfrm rot="16200000">
            <a:off x="3085200" y="2178720"/>
            <a:ext cx="380880" cy="865080"/>
          </a:xfrm>
          <a:prstGeom prst="downArrow">
            <a:avLst>
              <a:gd name="adj1" fmla="val 50000"/>
              <a:gd name="adj2" fmla="val 5678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 Subtítulo"/>
          <p:cNvSpPr/>
          <p:nvPr/>
        </p:nvSpPr>
        <p:spPr>
          <a:xfrm>
            <a:off x="3851280" y="4724280"/>
            <a:ext cx="4249800" cy="15843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Via electronic ID card or signature obtained from the Fábrica Nacional de Moneda y Timbre (The Spanish Royal Mi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924360" y="134136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alibri"/>
              </a:rPr>
              <a:t>Digital signature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 by the authorised person (e.g. Director) once it has been checked with the mobility tutor that the details are correct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 Subtítulo"/>
          <p:cNvSpPr/>
          <p:nvPr/>
        </p:nvSpPr>
        <p:spPr>
          <a:xfrm>
            <a:off x="1219320" y="1676520"/>
            <a:ext cx="1600200" cy="18288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6200000">
            <a:off x="4103640" y="657360"/>
            <a:ext cx="3673440" cy="4464000"/>
          </a:xfrm>
          <a:prstGeom prst="leftArrowCallout">
            <a:avLst>
              <a:gd name="adj1" fmla="val 14955"/>
              <a:gd name="adj2" fmla="val 21007"/>
              <a:gd name="adj3" fmla="val 9481"/>
              <a:gd name="adj4" fmla="val 75063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THE ELECTRONIC SIGNATURE 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333cc"/>
                </a:solidFill>
                <a:latin typeface="Calibri"/>
              </a:rPr>
              <a:t>The Spanish Royal Mint, has implemented an application that allow citizens/companies to transact their business via Internet in a completely secure man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333cc"/>
                </a:solidFill>
                <a:latin typeface="Calibri"/>
              </a:rPr>
              <a:t>The electronic signature certificate system is transparent to the citizen, is easy to use, offers convenience of availability, and large capacity for simultaneous access by users of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3333cc"/>
                </a:solidFill>
                <a:latin typeface="Calibri"/>
              </a:rPr>
              <a:t>Each citizen can communicate with the different administrations with a single 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2 Subtítulo"/>
          <p:cNvSpPr/>
          <p:nvPr/>
        </p:nvSpPr>
        <p:spPr>
          <a:xfrm>
            <a:off x="1476360" y="2060640"/>
            <a:ext cx="1600200" cy="115236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16200000">
            <a:off x="4607640" y="585000"/>
            <a:ext cx="3097440" cy="4464000"/>
          </a:xfrm>
          <a:prstGeom prst="leftArrowCallout">
            <a:avLst>
              <a:gd name="adj1" fmla="val 17736"/>
              <a:gd name="adj2" fmla="val 24914"/>
              <a:gd name="adj3" fmla="val 9481"/>
              <a:gd name="adj4" fmla="val 75063"/>
            </a:avLst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Subtítulo"/>
          <p:cNvSpPr/>
          <p:nvPr/>
        </p:nvSpPr>
        <p:spPr>
          <a:xfrm>
            <a:off x="3708360" y="4365720"/>
            <a:ext cx="4897440" cy="19429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The Europass Mobility is automatically officially registered in the National Register of Europass Mobility Documents</a:t>
            </a: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 (in the OAPE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The document is now officially valid.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924360" y="1413000"/>
            <a:ext cx="44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The Spanish NA, the competent body of Autonomus Comunities (regions) or, as applicable, the relevant University shall validate the Document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 rot="16200000">
            <a:off x="3301200" y="2250000"/>
            <a:ext cx="381240" cy="865080"/>
          </a:xfrm>
          <a:prstGeom prst="downArrow">
            <a:avLst>
              <a:gd name="adj1" fmla="val 50000"/>
              <a:gd name="adj2" fmla="val 56728"/>
            </a:avLst>
          </a:prstGeom>
          <a:solidFill>
            <a:srgbClr val="3333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55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Calibri"/>
              </a:rPr>
              <a:t>When we select the Europass Mobility Document, there are 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4 options relating to the processing of the docu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To obtain the EM Document as a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TUTOR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To sign the EM Document via an electronic ID card or</a:t>
            </a:r>
            <a:r>
              <a:rPr b="0" lang="en-GB" sz="18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digital certificate from the F.N.M.T. as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DIRECTOR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To validate the EM Document (Regions/OAPEE/Universities), as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VALIDATING ORGANISATION OF THE EUROPASS MOBILITY </a:t>
            </a: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DOCUMENT (valid only for the OAPEE, Universities and Regions)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alibri"/>
              </a:rPr>
              <a:t>To check the status of your Europass mobility certificate, (enter the verification code) as a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EUROPASS MOBILITY DOCUMENT APPL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7151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  <a:ea typeface="Calibri"/>
              </a:rPr>
              <a:t>To complete the application, you will have to enter from the TUTOR profile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oapee.es/europassmobility/tutor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pantallazo2"/>
          <p:cNvPicPr/>
          <p:nvPr/>
        </p:nvPicPr>
        <p:blipFill>
          <a:blip r:embed="rId1"/>
          <a:stretch/>
        </p:blipFill>
        <p:spPr>
          <a:xfrm>
            <a:off x="1476360" y="2349360"/>
            <a:ext cx="7058160" cy="374364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>
            <a:off x="5867280" y="4508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"/>
          <p:cNvSpPr/>
          <p:nvPr/>
        </p:nvSpPr>
        <p:spPr>
          <a:xfrm>
            <a:off x="6732720" y="4581360"/>
            <a:ext cx="165564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ff"/>
                </a:solidFill>
                <a:latin typeface="Arial"/>
              </a:rPr>
              <a:t>Register and  obtain  passwor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90756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STEPS OF THE EM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pantallazo3"/>
          <p:cNvPicPr/>
          <p:nvPr/>
        </p:nvPicPr>
        <p:blipFill>
          <a:blip r:embed="rId1"/>
          <a:stretch/>
        </p:blipFill>
        <p:spPr>
          <a:xfrm>
            <a:off x="1258920" y="1916280"/>
            <a:ext cx="763416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Line 8"/>
          <p:cNvSpPr/>
          <p:nvPr/>
        </p:nvSpPr>
        <p:spPr>
          <a:xfrm flipV="1">
            <a:off x="2843280" y="3500280"/>
            <a:ext cx="345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6300720" y="3141720"/>
            <a:ext cx="1800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Sel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489800" cy="5400720"/>
          </a:xfrm>
          <a:prstGeom prst="rect">
            <a:avLst/>
          </a:prstGeom>
          <a:ln w="0">
            <a:noFill/>
          </a:ln>
        </p:spPr>
      </p:pic>
      <p:sp>
        <p:nvSpPr>
          <p:cNvPr id="152" name="Line 12"/>
          <p:cNvSpPr/>
          <p:nvPr/>
        </p:nvSpPr>
        <p:spPr>
          <a:xfrm flipV="1">
            <a:off x="3780000" y="4436640"/>
            <a:ext cx="1800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5580000" y="4076640"/>
            <a:ext cx="1656000" cy="687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ff"/>
                </a:solidFill>
                <a:latin typeface="Arial"/>
              </a:rPr>
              <a:t>Sel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NATIONAL EUROPASS CENTRE"/>
          <p:cNvPicPr/>
          <p:nvPr/>
        </p:nvPicPr>
        <p:blipFill>
          <a:blip r:embed="rId1"/>
          <a:stretch/>
        </p:blipFill>
        <p:spPr>
          <a:xfrm>
            <a:off x="1116000" y="981000"/>
            <a:ext cx="7559640" cy="5327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530360" y="3692520"/>
            <a:ext cx="549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83760" y="1052280"/>
            <a:ext cx="7464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Calibri"/>
                <a:ea typeface="Calibri"/>
              </a:rPr>
              <a:t>To sign the Europass mobility certificate via an electronic ID card or digital certificate from the F.N.M.T. as a DIRECTOR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https://www.oapee.es/europassmobility/director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/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oapee.es/europassmobility/directo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pantallazo 70"/>
          <p:cNvPicPr/>
          <p:nvPr/>
        </p:nvPicPr>
        <p:blipFill>
          <a:blip r:embed="rId1"/>
          <a:stretch/>
        </p:blipFill>
        <p:spPr>
          <a:xfrm>
            <a:off x="1332000" y="2997360"/>
            <a:ext cx="7489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715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To validate the Europass mobility certificates (CCAA/OAPEE), as VALIDATING ORGANISATION OF THE EUROPASS MOBILITY DOCUMENT (valid only for the OAPEE, Universities and  Regions)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oapee.es/europassmobility/ccaa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/ </a:t>
            </a:r>
            <a:br>
              <a:rPr sz="2000"/>
            </a:b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http://www.oapee.es/europassmobility/cc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pantallazo5"/>
          <p:cNvPicPr/>
          <p:nvPr/>
        </p:nvPicPr>
        <p:blipFill>
          <a:blip r:embed="rId1"/>
          <a:stretch/>
        </p:blipFill>
        <p:spPr>
          <a:xfrm>
            <a:off x="1187280" y="2565360"/>
            <a:ext cx="7345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78598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  <a:ea typeface="Calibri"/>
              </a:rPr>
              <a:t>To check the status of your Europass mobility certificate, (enter the verification code) as a EUROPASS MOBILITY DOCUMENT APPLICANT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oapee.es/europassmobilit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2" descr="pantallazo6"/>
          <p:cNvPicPr/>
          <p:nvPr/>
        </p:nvPicPr>
        <p:blipFill>
          <a:blip r:embed="rId1"/>
          <a:stretch/>
        </p:blipFill>
        <p:spPr>
          <a:xfrm>
            <a:off x="1547640" y="2781360"/>
            <a:ext cx="7129800" cy="36003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>
            <a:off x="2411280" y="41497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5148360" y="3860640"/>
            <a:ext cx="2303280" cy="6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Enter verification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6000" y="1125360"/>
            <a:ext cx="712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EUROPASS DIPLOMA SUPPLEMENT (E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16000" y="2133720"/>
            <a:ext cx="7570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downloaded EDS examples: 8.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downloaded EDS models: 5.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hits on the link: 8.000 apr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EDS for VET issued: 95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EDS for University Degrees: No official data given from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Two different levels of EDS in Sp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DS for High Degree VET – Superior Technician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provided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by General Directorate for Vocational Guidance and Training, who has developed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ational inventory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f High Degree VET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for downloading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at this lin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://todofp.es/todofp/orientacion-profesional/movilidad/Suplementos-Europass/Titulos-LOE.html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(new VET Ti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://todofp.es/todofp/orientacion-profesional/movilidad/Suplementos-Europass/Titulos-LOGSE.html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(old VET Ti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971640" y="1125360"/>
            <a:ext cx="7726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VET Curricular reform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is being implemented. New Supplements for Higher VET have been designed using learning outcomes to define each mo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The Spanish NEC is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coordinating the publication, updating and management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of Higher VET Supplemen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The NEC provides an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explanatory sheet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on the EDS and a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printed copy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of the copy to anybody who requests one (in the desired languague: Spanish, English or Fren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042560" y="1052640"/>
            <a:ext cx="7705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2. </a:t>
            </a: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EDS for University Degrees,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provided on voluntary basis by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ational legal provision concerning the use of the EDS: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Royal Decree 1044/2003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, 1 August to legislate the issue of EDS for University Degrees,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Royal Decree 1002/2010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, 5 August to legislate the issuing of new University Degrees (Bolonia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o official data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for EDS University Deg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Spanish NEC and NARIC Spain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, have sent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survey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to all Spanish Universities (public and privates), in order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o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get information about how many of them are issuing the EDS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(management, promotion, translation, main obstacles they find…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115640" y="1267920"/>
            <a:ext cx="755964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he Secretariat of State for Universities and Research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as developed an EDS template for Universities Degrees (in Spanish, English and co-official languages), including intructions for fill in, examples and technical characteristics , at this lin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://www.educacion.es/educacion/universidades/educacion-superior-universitaria/coordinacion-academic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907560"/>
            <a:ext cx="76438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  <a:ea typeface="Arial"/>
              </a:rPr>
              <a:t>EUROPASS-CERTIFICATE SUPPLEMENT (E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2349000"/>
            <a:ext cx="7499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downloaded ECS examples: 5.5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ECS for VET issued: 772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umber of ECS for Vocational Professional Certifificates: No official data given from the Spanish National Employment Service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87280" y="1052280"/>
            <a:ext cx="7499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wo different levels of ECS in Sp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ECS for Mid Degree VET – Technician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provided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by General Directorate for Vocational Guidance and Training, who has developed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ational inventory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f Mid Degree VET at this link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://todofp.es/todofp/orientacion-profesional/movilidad/Suplementos-Europass/Titulos-LOE.html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(new VET Ti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://todofp.es/todofp/orientacion-profesional/movilidad/Suplementos-Europass/Titulos-LOGSE.html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(old VET Tit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6438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HISTORY OF SPANISH NATIONAL AGENCY FOR EDUCATIONAL PROGRAMMES (OAP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570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Was created by a Statute approved by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Royal Decree 903/2007, of 6 July 2007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, a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an Agency of the Ministry of Education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 through the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Secretariat of State for Universities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OAPEE was constituted as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Spanish National Agency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in the area of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European Educational progra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It ha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diferentiated public legal personality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, it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own assets and treasury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, as well a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management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042560" y="907920"/>
            <a:ext cx="7643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2.  ECS for Vocational-Professional Certificates,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provided by the National Employment Services (Ministry of Lab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ational legal provision concerning the use of the ECS: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Royal Decree 34/2008,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18 January, and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Royal Decree 1675/2010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, 10 December to legislate the issuing of Vocational Professional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o official data for ECS Vocational Professional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he National Employment Services, has developed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national inventory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f Vocational-Professional Services at this link: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www.redtrabaja.es/es/redtrabaja/portal/index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186920" y="2565360"/>
            <a:ext cx="748836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  <a:ea typeface="Calibri"/>
              </a:rPr>
              <a:t>Promotion of EURO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NATIONAL INTERNET SITE AND INFORM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15640" y="1915920"/>
            <a:ext cx="777708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he NEC runs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an specific Europass site: http://www.oapee.es/iniciativas/europa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he NEC has a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functional e-mail address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in operation with an average of 200 information requests and feedback messages, per week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https://juglar.mec/exchange/euro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Information and request come mainly from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individual citizens, form national learning institutions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(HE and Univers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ccasional requests from International institutions and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16000" y="1125360"/>
            <a:ext cx="7632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Revamp of the Europass web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ranslation to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Catalan, Basque and Gal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On line satisfaction survey tool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hat allows users to express their degree of satisfaction regarding the information and guidance received from the NEC (quality, quicknes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Development of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specific indicators 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to make an easy recount of hits on the link, Europass documents issu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We will include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  <a:ea typeface="Calibri"/>
              </a:rPr>
              <a:t>direct links to EURES, EURODESK, EUROGUIDANCE, NARIC and National Employmen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715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EUROPASS PUBLICATIONS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16000" y="1989000"/>
            <a:ext cx="7570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Spanish National Agency Publications (OAPEE):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Annual Report (Spanish &amp; English), Papiro Digital magazine (biannual), Papeles Europeos magazine (an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Europass leafleats: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General Europass leafleat and EM leafleat (both in Span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Europass e-book: </a:t>
            </a: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instructions for filling the EM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6438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alibri"/>
                <a:ea typeface="Calibri"/>
              </a:rPr>
              <a:t>EUROPASS MERCHANDISING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Antistress star (Europass log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Blue Europass p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Post it Europass-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Frisbees: white and yellow with Europass logo and the sentence “ve donde quieras ir” (Go wherever you wa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  <a:ea typeface="Calibri"/>
              </a:rPr>
              <a:t>USB memory with a direct link to EM tool, examples and instructions for fill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6438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EUROPASS EVENTS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Events organised by the NE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Promotion of Europass documents (twice a year):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 meetings and workshops for Universities, LLP promoters and Europass contacts in Spanish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Events organised by the Spanish NA and the NEC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Promotion of EM document in LLP events (Comenius, Grundtvig, Erasmus, Leonardo da Vinci and Study Visits):</a:t>
            </a: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, meetings and training days for LLP promo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Promotion of EM document European Language Portfolio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116000" y="1125000"/>
            <a:ext cx="77040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</a:rPr>
              <a:t>Other Europass ev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</a:rPr>
              <a:t>Events organised by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</a:rPr>
              <a:t>Regulary meetings with Europass responsables in Spanish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</a:rPr>
              <a:t>Students Fairs (University, VE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alibri"/>
              </a:rPr>
              <a:t>Secondary schools events (for pupils and teache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6000" y="1341000"/>
            <a:ext cx="757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EUROPASS </a:t>
            </a:r>
            <a:r>
              <a:rPr b="1" i="1" lang="es-ES" sz="4000" spc="-1" strike="noStrike">
                <a:solidFill>
                  <a:srgbClr val="3333cc"/>
                </a:solidFill>
                <a:latin typeface="Calibri"/>
              </a:rPr>
              <a:t>Website</a:t>
            </a: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 Activity Report 2010 for S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</a:rPr>
              <a:t>Statisti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5596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VISITS FROM SPAIN DURI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4600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48836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</a:rPr>
              <a:t>STRUCTURE. ORGANISATIONAL CHART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For the implementation of LLP, the National Agency has a staff of </a:t>
            </a: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85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National Agency Un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Management (4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General Secretariat: economic and financial management and Accounting (12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Information, Communication and Valorisation Area (8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Project Evaluation and Control Area (6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Internal Auditing (1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408640" y="1989000"/>
            <a:ext cx="3735360" cy="3173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768480" cy="3745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133640"/>
            <a:ext cx="73994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58988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1552680" y="4094280"/>
            <a:ext cx="690696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f218b"/>
                </a:solidFill>
                <a:latin typeface="Arial"/>
              </a:rPr>
              <a:t>Thanks for your attention</a:t>
            </a:r>
            <a:r>
              <a:rPr b="1" lang="es-ES" sz="4000" spc="-1" strike="noStrike">
                <a:solidFill>
                  <a:srgbClr val="0f218b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3600" spc="-1" strike="noStrike">
                <a:solidFill>
                  <a:srgbClr val="0f218b"/>
                </a:solidFill>
                <a:latin typeface="Arial"/>
              </a:rPr>
              <a:t>sadia.khokhar@oapee.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2"/>
          <p:cNvGraphicFramePr/>
          <p:nvPr/>
        </p:nvGraphicFramePr>
        <p:xfrm>
          <a:off x="2771640" y="981000"/>
          <a:ext cx="485964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981000"/>
                    <a:ext cx="485964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alibri"/>
              </a:rPr>
              <a:t>STRUCTURE. ORGANISATIONAL CHART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Informatics (5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alibri"/>
              </a:rPr>
              <a:t>NATIONAL EUROPASS CENTRE (1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Languages Division: European Language Portfolio and other language initiatives (1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Comenius, Grundtvig and Study Visits Division (17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Erasmus Division (12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Leonardo da Vinci Division (18 pers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7272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alibri"/>
              </a:rPr>
              <a:t>SPANISH NATIONAL EUROPASS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1412640"/>
            <a:ext cx="80503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Spanish NEC was created under the General  Directorate for Vocational Guidance and Training till May 2009, from that date is under Spanish NA (OAPEE)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NEC Staf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Sadia Khokhar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: Head of N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Gema Cavada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: Europass Technical Support for ECS and EDS (VET) at General Directorate for Vocational Guidance and Training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Angeles Santiago: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 Europass Technical Support for ECS (Vocational-Professional Certificates) at National Employment Service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libri"/>
              </a:rPr>
              <a:t>Europass responsibles at each Spanish regions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 (17 regions + autonomous cities of Ceuta and Melil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alibri"/>
              </a:rPr>
              <a:t>* </a:t>
            </a:r>
            <a:r>
              <a:rPr b="0" lang="es-ES" sz="2000" spc="-1" strike="noStrike">
                <a:solidFill>
                  <a:srgbClr val="3333cc"/>
                </a:solidFill>
                <a:latin typeface="Calibri"/>
              </a:rPr>
              <a:t>Outside the N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16000" y="1341000"/>
            <a:ext cx="772488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Calibri"/>
                <a:ea typeface="Calibri"/>
              </a:rPr>
              <a:t>Where can I get my EUROPASS Document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8496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http://www.oapee.es/oapee/inicio/iniciativas/europas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YOU MUST GO TO THE OAPEE </a:t>
            </a:r>
            <a:r>
              <a:rPr b="1" i="1" lang="es-ES" sz="2800" spc="-1" strike="noStrike">
                <a:solidFill>
                  <a:srgbClr val="3333cc"/>
                </a:solidFill>
                <a:latin typeface="Arial"/>
              </a:rPr>
              <a:t>WEB SITE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488360" cy="4392720"/>
          </a:xfrm>
          <a:prstGeom prst="rect">
            <a:avLst/>
          </a:prstGeom>
          <a:ln w="0">
            <a:noFill/>
          </a:ln>
        </p:spPr>
      </p:pic>
      <p:sp>
        <p:nvSpPr>
          <p:cNvPr id="63" name="Line 13"/>
          <p:cNvSpPr/>
          <p:nvPr/>
        </p:nvSpPr>
        <p:spPr>
          <a:xfrm>
            <a:off x="2627280" y="5589720"/>
            <a:ext cx="3673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300720" y="5516640"/>
            <a:ext cx="1371600" cy="64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Click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4300200" y="476640"/>
            <a:ext cx="5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55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1:46:44Z</dcterms:created>
  <dc:creator>cecilia.baquero</dc:creator>
  <dc:description/>
  <dc:language>en-US</dc:language>
  <cp:lastModifiedBy>sadia.khokhar</cp:lastModifiedBy>
  <dcterms:modified xsi:type="dcterms:W3CDTF">2011-05-04T11:16:43Z</dcterms:modified>
  <cp:revision>167</cp:revision>
  <dc:subject/>
  <dc:title>Presentación de PowerPoint</dc:title>
</cp:coreProperties>
</file>