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21D6-52C7-4EFB-9131-C66BEF5D0C7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u geen link tussen Digi-K en deze database. In de toekomst hopelijk w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55F-CE7D-4F15-9457-B0A28B57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BFA-E6D4-4D71-9CC6-32564DCC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DBD-D5A1-42A6-A8B7-C6424C93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04A-4C8C-439A-AD83-E650473E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1F3-3F89-4070-9FBB-DE2B4C0D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83F-7C9F-4E4D-9975-C9498CF4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148-8BD8-44D0-BB1B-BCDC28AF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C8B-FCD3-4721-AF4C-9988DDA1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34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56C-D783-4140-9C3D-66B2E0C0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271-C85A-420D-AF94-63A0494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2EF-C056-445B-94AB-C2287AEB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8BB-6E42-4563-85FA-7F0FCACF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20F9-ADE7-4F26-9B65-7831FDAACD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hyperlink" Target="http://www.nlnrp.nl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hyperlink" Target="http://www.coloplatform.nl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lnrp.nl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Database Europass Certificate Supplement</a:t>
            </a:r>
            <a:br>
              <a:rPr sz="2800"/>
            </a:br>
            <a:r>
              <a:rPr b="1" lang="en-US" sz="2400" spc="-1" strike="noStrike">
                <a:solidFill>
                  <a:srgbClr val="00bee1"/>
                </a:solidFill>
                <a:latin typeface="Arial"/>
              </a:rPr>
              <a:t>the Netherlands</a:t>
            </a:r>
            <a:endParaRPr b="1" lang="en-US" sz="24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Indira von Oven – Colo (Dutch NEC)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8-5-2011, Malaga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4990"/>
                </a:solidFill>
                <a:latin typeface="Arial"/>
              </a:rPr>
              <a:t>Email: i.vonoven@colo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Improvements of the database</a:t>
            </a:r>
            <a:r>
              <a:rPr b="1" lang="nl-NL" sz="2800" spc="-1" strike="noStrike">
                <a:solidFill>
                  <a:srgbClr val="00bee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Improving the administrative part of th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Improving the website of the NRP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Making it possible to change all the CS at once (example change in address, adding the EQF / NLQF level)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Linking all databases together </a:t>
            </a:r>
            <a:r>
              <a:rPr b="0" lang="en-US" sz="2400" spc="-1" strike="noStrike">
                <a:solidFill>
                  <a:srgbClr val="00499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 generating CS directly within th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Certificate Supplement: statistics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Europass Certificate Supplement is available free of charge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utomatically generated from the qualification websit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Certificate Supplements are available: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all new level 3 + 4 qualifications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s 2008: 125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old qualifications: 200  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vailable in Dutch and English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Why a new database?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Word and Excel not sufficient for so many C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Difficult to search through all the CS available online and available within Word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No connection between Word and the online databas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Only possible to search in alphabetical order, no other search option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10108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12280" r="39983" b="31103"/>
          <a:stretch/>
        </p:blipFill>
        <p:spPr>
          <a:xfrm>
            <a:off x="-1440" y="0"/>
            <a:ext cx="9145440" cy="6308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Meer informatie?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oloplatform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0" t="12277" r="0" b="0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ee1"/>
                </a:solidFill>
                <a:latin typeface="Arial"/>
              </a:rPr>
              <a:t>So let’s have a look</a:t>
            </a: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On the internet: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lnrp.n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Key words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7f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Via extended search options 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Name qualification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 number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Qualification level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49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990"/>
                </a:solidFill>
                <a:latin typeface="Arial"/>
              </a:rPr>
              <a:t>Branch</a:t>
            </a:r>
            <a:endParaRPr b="0" lang="en-US" sz="22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17236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12939" r="0" b="456"/>
          <a:stretch/>
        </p:blipFill>
        <p:spPr>
          <a:xfrm>
            <a:off x="0" y="404640"/>
            <a:ext cx="9144000" cy="583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101080" y="5805360"/>
            <a:ext cx="7430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12503" r="8025" b="2310"/>
          <a:stretch/>
        </p:blipFill>
        <p:spPr>
          <a:xfrm>
            <a:off x="324000" y="333360"/>
            <a:ext cx="8642160" cy="597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172360" y="5877000"/>
            <a:ext cx="74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ee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12800" t="12939" r="14161" b="20131"/>
          <a:stretch/>
        </p:blipFill>
        <p:spPr>
          <a:xfrm>
            <a:off x="468360" y="404640"/>
            <a:ext cx="8351640" cy="5500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877000"/>
            <a:ext cx="7426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0:30:49Z</dcterms:created>
  <dc:creator>mavb</dc:creator>
  <dc:description/>
  <dc:language>en-US</dc:language>
  <cp:lastModifiedBy>sadia.khokhar</cp:lastModifiedBy>
  <dcterms:modified xsi:type="dcterms:W3CDTF">2011-05-17T11:00:50Z</dcterms:modified>
  <cp:revision>12</cp:revision>
  <dc:subject/>
  <dc:title>Certificaatsupplement op internet Coloplatform</dc:title>
</cp:coreProperties>
</file>