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2128-488A-44A5-AE69-8B9FFBA9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BF0B-300D-4738-AD07-D1EC3824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5203-2E1C-463A-8B47-764EAA9FC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12AE-08BD-4E36-BE5B-655553F8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F189-B043-4C92-BCB7-C8E1BFA1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C662-649F-471B-BD5F-B2D5D4DE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031F-4E4F-4D1F-91D8-F9AD75AF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88E5-74B1-43CE-885F-ADD06A3B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5E4E-59D9-4B66-8A66-6DE7FCD7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06B4-1D8F-4AB4-812D-898CFDDB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55FB-B831-4300-A60C-DEF2C60B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58C8-50DE-4788-8933-DF55069F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3588-FA80-4B8A-B494-3552415A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5F0A-214F-4865-BA49-23D13BE7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53ED-EDD3-4C7D-99E5-12C84AE0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7C94-FD55-4297-928C-2672ADA5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EE63-B3FA-4D1A-9997-853EC12C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0B81-03FF-454A-AEE5-0739095B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5BD3-F70B-4AFA-BFDB-5E30EDFF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F9D2-1C13-4EB5-8AC3-FAF21C0F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D2ED-D327-4EF5-B3FE-671DDCD7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1AD0-6C75-4ADA-9AFD-E27EA954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B177-903B-4511-8DB6-D9503B1C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5F60-BD71-4C38-A861-8774327A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013A-6DDB-40F2-A4EB-69CE633826A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6086-B8A6-45AD-9BF8-DF23A6D72D8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1341360"/>
            <a:ext cx="7991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Century Gothic"/>
              </a:rPr>
              <a:t>CREATIVIDAD E INNOVACIÓN</a:t>
            </a: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r>
              <a:rPr b="0" lang="es-ES_tradnl" sz="2200" spc="-1" strike="noStrike">
                <a:solidFill>
                  <a:srgbClr val="000000"/>
                </a:solidFill>
                <a:latin typeface="Century Gothic"/>
              </a:rPr>
              <a:t>SEMINARIO INTERNACIONAL DEL CONSEJO DE EUROPA MAYO 2009</a:t>
            </a:r>
            <a:br>
              <a:rPr sz="2200"/>
            </a:b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35280" y="981000"/>
            <a:ext cx="45673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996633"/>
                </a:solidFill>
                <a:latin typeface="Verdan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C9D2-B430-446C-900A-3A4AA1BAF0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upo 4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ONCEPTOS CLAVE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96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OCER OTROS PROFESIONALES Y REA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LICAR Y DIFUNDIR EXPERIENCIAS E INNOV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ALORAR LA DIVERSIDAD PARA RESPETAR LAS DIFERENTES CULTU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SEOS DE CONTINUAR INTERACTUA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D39B-5A9A-41D1-823E-E991C74A834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upo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1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.INICIATIV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SIMIL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POTENCIACIÓN DE LAS NUEV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ECNOLOG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VALORACIÓN DE LA EDUCACIÓN PLURILINGÜE EN LAS DIFERENTES ETAPAS EDUC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DD4A-A121-4BD2-914E-200E0CD0098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upo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15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ICIATIVAS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35344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SINGULAR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PORTUGA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ordenadores para profesores(150€) y alumnos(50 €).Es gratis para los que no tienen din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las sesiones de clase son de 90 minutos en todas las et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CHIPRE Y AUSTRIA: certificación europea de conocimientos de infor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ESPAÑ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-Andalucía:coordinador de coedu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-Cataluña:planes educativos de ent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-C.valenciana:implantación de la metodología CLIL(plurilingüis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AUSTRIA: hay grupos donde la enseñanza se realiza con portátiles durante toda la jorn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DA24-1D1A-49B4-A591-5713A26BCA6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upo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    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FORMACIÓN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ca-ES" sz="3000" spc="-1" strike="noStrike">
                <a:solidFill>
                  <a:srgbClr val="000000"/>
                </a:solidFill>
                <a:latin typeface="Arial"/>
              </a:rPr>
              <a:t>SIMILITU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Arial"/>
              </a:rPr>
              <a:t>- F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ormación permanente a lo largo de la vida profes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- Manuales actualizados al marco de referencia de las lengu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-Ayudas y becas para formarse en cualquier campo en el país de origen u en otros pai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9DE3-9244-49A9-958F-CA1202806FB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upo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ACIÓN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1688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SINGULAR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-AUSTRIA:En cada una de las nueve provincias existe un instituto pedagó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-CHIPRE:No hay oposiciones para acceder a la docencia.Sistema de listas por año de grad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ESPAÑA:Cada C.A tiene su propio centro de formación que recibe nombres difer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Reserva de plazas para el profesorado en las distintas EO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-PORTUGAL:Los sindicatos y las asociaciones se encargan de la formación del profesorado que luego valida la administración. 25 horas de formación cda año son obligatorias, la mitad en su área de enseñ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4164-A568-499B-898B-71878CC4920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upo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3. MATERIALES Y RECURS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ca-ES" sz="3000" spc="-1" strike="noStrike">
                <a:solidFill>
                  <a:srgbClr val="000000"/>
                </a:solidFill>
                <a:latin typeface="Arial"/>
              </a:rPr>
              <a:t>SIMILITU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Arial"/>
              </a:rPr>
              <a:t>-Utilización de foros, blogs,webs,plataformas mood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Arial"/>
              </a:rPr>
              <a:t>-WEBS DE INTERÉ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www.lsr-noe.gv.ac.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www.bmukk.gv.ac.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CHIP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www.moec.gov.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29AE-9CAE-4087-852D-C4EF5BFE76F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upo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TERIALES Y RECURSOS 2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ESPAÑ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www.ceei.es(centro europeo de empresas e innov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Andalucí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www.juntadeandalucia.es  (agencia idea, innovación y desarrol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Cataluñ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www20.gencat.cat/portal/site/Educació (áreas de actuación e innovación educativ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www.joanteixido.org  (tercer premio CIDE investigación educativa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PORTUG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www.dgidc.min-edu.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092-80B5-49AE-920C-4F78F146462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upo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900" spc="-1" strike="noStrike">
                <a:solidFill>
                  <a:srgbClr val="330066"/>
                </a:solidFill>
                <a:latin typeface="Arial"/>
              </a:rPr>
              <a:t>4.Valoración y sug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Aspectos positiv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-Notable organización(nivel general de los ponentes muy elevado,elección del sitio,acogida,apoyo,ambiente de trabajo, gastronomía 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-Acertada selección de los participantes (diversidad de origen , de etapas educativas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-El trabajo en  grupos reducidos ha sido clave  para intercambiar información e ide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5209-C020-45B5-A89F-F3FF6C276CF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upo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VALORACIÓN Y SUGERENCIAS 2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SUGER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-La duración de algunas ponencias y los powerpoints sobrecargados de información no facilitaban la comprensión del te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-Las ponencias podrían repartirse en papel recogiendo las ideas centr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-Los participantes podrían rotar por distintos grupos de trabaj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EFDC-E837-40AE-A500-9F897AEDE85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upo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86vmb</cp:lastModifiedBy>
  <cp:lastPrinted>2004-02-03T17:19:35Z</cp:lastPrinted>
  <dcterms:modified xsi:type="dcterms:W3CDTF">2009-05-07T14:35:24Z</dcterms:modified>
  <cp:revision>351</cp:revision>
  <dc:subject/>
  <dc:title>COMPETÈNCIES  BÀSIQUES</dc:title>
</cp:coreProperties>
</file>