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C00-716A-4152-8895-F4244A3BAA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AB9-8338-4B6E-82FA-9DEFC6C8E0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AAA3-49E1-438A-B9A2-7CA50275B9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6B7-725A-4F22-B633-0A821E6E8E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1D8-FF73-4F4D-82E6-FA76526F97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749F-3C85-4E42-B24B-7E2FD2B01DD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3F20-9254-48D2-A41A-579EB30F7FF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C773-7E56-4514-AFAD-80C5B71327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954-B411-42D0-9BC9-09358D11B5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F5F5-043A-4F52-9526-8D5BC5FC55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8DFD-892A-4754-9E0A-2242436746B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1767-9F41-456C-A5B3-6A06847085A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75FC-6766-4395-B2C9-A3A03A638A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0175-F047-40C7-8DCA-D681A42E0A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6D20-3240-432E-AE72-69B7E38DB3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81E-E3ED-401C-861B-ED10BAD67A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D895-F90F-436E-AB4B-005A0972B3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BE4-C417-471C-B082-6708605C5B4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28F-BDF9-4E9B-B2EB-5880D8FCBD2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B51-A72D-4A4C-A3AE-08FCA32AC2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CED-87C9-4282-BBEE-53F56695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B9C-9FC0-47AA-AD76-CA3260C5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86A-919B-4AF3-90FB-CB417B07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B9C-FEDA-4E4B-85A6-5809E9CC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226-889A-4A38-9AE1-B2D7361A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E2BB-F2BD-44F3-8591-C57E7152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63CE-3D0F-44CB-BEB2-42D12319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233B-A31E-4A76-9AE1-653FF37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D874-1047-47AE-89E0-3126D859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38E1-31A5-4445-B693-ED971124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D2F-D4EB-491E-A620-9141D6B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97E-C0FC-4B94-8231-FACBA5C3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9C52-13F0-431B-9190-5E7898C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AF64-83E3-4C21-8025-E42453F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DDD-66DC-430A-9004-CE51F2F1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03B1-8691-4438-A883-19593BDB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9FB9-60A4-4EE6-83B1-B5811E6E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71C2-A560-4641-BD2C-0244E8D7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9BAF-73FB-4200-AE95-FF31E61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4B44-8E30-4AAA-8805-D90731C6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13EA-6A5D-4AFA-B456-8C10359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7090-88E2-433B-AE05-B7F095C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709-2B47-4512-9A41-C13CA0D9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AD69-D4C4-4460-928C-72FB1E9F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ED53-6A88-4DB5-83E1-D73663B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35B2-07B4-4506-A1A4-926FAC6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D5A8-A11E-4D1E-A623-64814AA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56D6-FAE1-45E8-8244-B682658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3DC3-22D9-45F3-8EAB-5B6F3F7F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0949-EF06-4A7F-A595-38968FEA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8C27-48BE-4239-84F1-89AF7800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0178-4B2E-4102-BA74-284D3FF9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67BF-2922-44E9-B9B7-4FBFA1BA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D92-D151-4E90-923D-2AC2629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BA07-B273-463F-9840-52185D87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6D95-B067-40F0-A8CE-00316629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8C29-9365-43D5-8EB1-EA34A9FC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4D5D-F7EC-491E-80BA-F3FABC6D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9981-BE1D-421F-BF6A-405CC56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6DC8-524D-407C-85C4-9117D13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96173-F3F8-4DB0-9FAC-F151F78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F562-ABB5-4C53-951F-18198775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1597-6642-4E5B-8BCB-8F0699FB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99F-7E14-4317-9954-2E313E8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983-96F7-4C62-8EBD-423BB40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CD7-84D8-427E-8440-F79DAA6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421-BC9B-4A3A-96A4-7CB06C5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416-16BE-41FB-8094-7670E1E6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DAC-C2D4-4676-B48A-3F35C80E8EE2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5CE-29C6-4E28-8CEC-2DCD5EF6B265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E5A-2091-40E5-B16B-244BF1343BC6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864-715A-4817-98DD-3EBA1C00E8C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0564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REATIVIDAD E INNOVACION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RETOS DEL FUTU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San Sebastián 4 - 8 Mayo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3" descr="fon-cabe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PAÍS VASC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omunidades de aprendizaje (25 cent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formación de todo el centro: Para incrementar el aprendizaje y buscando el éxito para tod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formación-Interacción-Participación-Form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s: Sueño, elección de prioridades, comisiones mixtas, plan de trabajo,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Innovaciones en el aul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ertulias dialógicas literarias con alumnado y famil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Grupos interactivos con voluntari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ratos de aprendiz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das inclusivas en el aula y en el cen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jardunaldiak.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ikas.k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ARAGÓ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8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ES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ablePC  (Cada alumno tiene un ordenador asignado por el centro y trabaja en algún momento con el ordenador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Bilinguismo catalán (en cada nivel dan una asignatur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ICLOS FORMATIVOS: Programa bilingüe en inglé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Asignatura inglés en 1° y 2° (5h en cada curs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asignatura troncal en 1° (6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asignatura troncal en 2° (9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grama ERASMUS: Prácticas en Belg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Sistema de gestión de ca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EN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tor de la salu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grama de Bibliotecas esco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iesbajocinca.or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4617b"/>
                </a:solidFill>
                <a:latin typeface="Verdana"/>
                <a:ea typeface="Verdana"/>
              </a:rPr>
              <a:t>ISLAS BALEA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COMUNIDAD AUTÓNOM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UNE-EN ISO 9001:2000, SISTEMAS DE GESTIÓN DE CALID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Proyecto ALTER: Alumnado con exclusión educativa para introducirlo en el mundo labor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CENTRO EDUCATIVO (IES JOSEP MIQUEL GUÀRDIA-ALAIOR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Proyectos basados en la calidad dentro del aula no en la gestión de la calidad fuera del aula: EJEMPLO: Proyecto intervención educativa (PIE): Reducir las ratios de las clases aumentando las horas lectivas del profesorado. Resultados: Menos fracaso y menos conflictivid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Abandono de la utilización de libros en bachillerato y utilizar la plataforma moodle. Compra de un ordenador portátil a cambio de la compra de los libros de texto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iqpib.caib.es/user/info/index.htm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xtec.ca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weib.caib.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860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EN QUE NOS FORMAMOS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642960"/>
            <a:ext cx="9144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GENERALIZAN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 través de las diferentes CONSEJERÍAS AUTÓNOMICAS, INSTITUCIONES PRIVADAS Y PÚBLICAS en general. Tanto a través de la formación presencial como on-lin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CONCRETAN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ación en centros: Gestionados directamente por el propio centro. 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(País Vas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Grupos de trabajo y seminarios: 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Austria y Españ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Congresos y seminarios: Con una SUPERVISIÓN PERSONALIZADAS (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Alemania Baden-Wurttenber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Cursos extraordinarios de tipo laboratorio sobre métodos de enseñanza  que promueven la creatividad y la innovación. En una primera fase de los seminarios serán invitados especialistas de Chipre y del extranjero. En una segunda fase los profesores que tomen parte en los seminarios aplicarán en la práctica los métodos aprendidos. 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(Chipr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Puesta al día de la Universidad de Chipre y de otras Universidades sobre los objetivos concretos de sus programas. (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Chipr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Participación de inspectores y de maestros en los seminarios del Instituto Pedagógico de Chipre para la creación de núcleos que actúen como multiplicadores en la difusión del conocimiento en todo el personal docente 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(Chipre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20" y="278604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MATERIALES Y RECURSOS UTILIZADO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856800"/>
            <a:ext cx="80438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URSOS MATER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 margen de los convencionales destaca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DA (Control de asistencia para el alumnad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boratorio fotográ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WEB 2.0 (Blogs, Moodle, 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izarra electró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des interrelacionadas entre cent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28800"/>
            <a:ext cx="79725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URSOS HUMA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bliotecas escolares tutoriz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lexibilizar el horario profes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corporación de expertos profe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ntabilizar los conocimientos profesionales y personales a/de toda la comunidad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teracción con el entorno laboral y socioeduca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oluntariad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7120" y="278604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VALORACIÓN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50004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Verdana"/>
                <a:ea typeface="Verdan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Valoración.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 Muy efectiva. Muy cercana. Marco incomparable. Alojamiento perfect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uger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Conocer previamente los asistentes y el motivos de su participació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PROGRAMA DEL SEMIN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Valor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Muy positiva. Una visión muy completa de lo que se hace en el Estado Español. Con personas muy competentes en sus discipli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uger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Entrega del material didáctico previa a la presen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Reducir el número de ponencias e incrementar el intercambio de experiencias entre los asist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7786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1a1585"/>
                </a:solidFill>
                <a:latin typeface="Verdana"/>
                <a:ea typeface="Verdana"/>
              </a:rPr>
              <a:t>        </a:t>
            </a:r>
            <a:r>
              <a:rPr b="1" lang="de-DE" sz="5000" spc="-1" strike="noStrike">
                <a:solidFill>
                  <a:srgbClr val="ff0000"/>
                </a:solidFill>
                <a:latin typeface="Verdana"/>
                <a:ea typeface="Verdana"/>
              </a:rPr>
              <a:t>GRUPO II</a:t>
            </a:r>
            <a:r>
              <a:rPr b="0" lang="de-DE" sz="5000" spc="-1" strike="noStrike">
                <a:solidFill>
                  <a:srgbClr val="04617b"/>
                </a:solidFill>
                <a:latin typeface="Verdana"/>
                <a:ea typeface="Verdana"/>
              </a:rPr>
              <a:t> </a:t>
            </a:r>
            <a:r>
              <a:rPr b="0" lang="de-DE" sz="5000" spc="-1" strike="noStrike">
                <a:solidFill>
                  <a:srgbClr val="04617b"/>
                </a:solidFill>
                <a:latin typeface="Verdana"/>
                <a:ea typeface="Verdana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26560" y="184464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08" name="4 Rectángulo"/>
          <p:cNvSpPr/>
          <p:nvPr/>
        </p:nvSpPr>
        <p:spPr>
          <a:xfrm>
            <a:off x="3714840" y="1571760"/>
            <a:ext cx="4786200" cy="92844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GÜNTER SAU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1143000" y="4143240"/>
            <a:ext cx="6500880" cy="250056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ª SOLEDAD CABRERA LIV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DAVID FONT MAMP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ENRIQUE D. RIOS G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PRUDENCIO ROBAINA BRI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ARTA ZURIME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6 Rectángulo"/>
          <p:cNvSpPr/>
          <p:nvPr/>
        </p:nvSpPr>
        <p:spPr>
          <a:xfrm>
            <a:off x="0" y="2643120"/>
            <a:ext cx="5143680" cy="107172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303e"/>
                </a:solidFill>
                <a:latin typeface="Verdana"/>
              </a:rPr>
              <a:t>CHIP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ARINA STERGID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7 Rectángulo"/>
          <p:cNvSpPr/>
          <p:nvPr/>
        </p:nvSpPr>
        <p:spPr>
          <a:xfrm>
            <a:off x="4643280" y="2857680"/>
            <a:ext cx="4143600" cy="107136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303e"/>
                </a:solidFill>
                <a:latin typeface="Verdana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GABRIELE BRAND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1 Imagen" descr="IMG_113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786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QUE HACEMOS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500" spc="-1" strike="noStrike">
                <a:solidFill>
                  <a:srgbClr val="ff0000"/>
                </a:solidFill>
                <a:latin typeface="Verdana"/>
                <a:ea typeface="Verdana"/>
              </a:rPr>
              <a:t>ALEMANIA</a:t>
            </a:r>
            <a:r>
              <a:rPr b="0" lang="de-DE" sz="32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br>
              <a:rPr sz="3200"/>
            </a:br>
            <a:r>
              <a:rPr b="0" lang="de-DE" sz="4500" spc="-1" strike="noStrike">
                <a:solidFill>
                  <a:srgbClr val="7b9899"/>
                </a:solidFill>
                <a:latin typeface="Verdana"/>
                <a:ea typeface="Verdana"/>
              </a:rPr>
              <a:t>BADEN-WÜRTTEMBER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00016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Curriculum 2004: Enseñanza y aprendizaje futur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utonomía para desarrollar objetivos diferentes por centros pero con unos estandares míninos y con pruebas centralizad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Pensamos que competencias han de desarrollar y después buscamos los contenidos que nos conducen a las competencias desead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La enseñanza: proceso permanente y evaluad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utoevaluación centro: profesores, familias y alumno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valuación externa: básica para formular objetivos que serán autoevaluados en el próximo ciclo de evalu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ación profesorado: en metodología innovadora, técnica de evaluación, trabajo Porfolio y feedback para mejorar la comunicación interna y extern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www.km-bw.d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www.evalution-bw.d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18" name="4 Triángulo isósceles"/>
          <p:cNvSpPr/>
          <p:nvPr/>
        </p:nvSpPr>
        <p:spPr>
          <a:xfrm>
            <a:off x="4071960" y="2643120"/>
            <a:ext cx="46080" cy="7164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5 Diagrama" descr=""/>
          <p:cNvPicPr/>
          <p:nvPr/>
        </p:nvPicPr>
        <p:blipFill>
          <a:blip r:embed="rId2"/>
          <a:stretch/>
        </p:blipFill>
        <p:spPr>
          <a:xfrm>
            <a:off x="1542960" y="706320"/>
            <a:ext cx="6107040" cy="4097520"/>
          </a:xfrm>
          <a:prstGeom prst="rect">
            <a:avLst/>
          </a:prstGeom>
          <a:ln w="0">
            <a:noFill/>
          </a:ln>
        </p:spPr>
      </p:pic>
      <p:sp>
        <p:nvSpPr>
          <p:cNvPr id="220" name="6 Cara sonriente"/>
          <p:cNvSpPr/>
          <p:nvPr/>
        </p:nvSpPr>
        <p:spPr>
          <a:xfrm>
            <a:off x="8072280" y="2857680"/>
            <a:ext cx="500400" cy="500040"/>
          </a:xfrm>
          <a:prstGeom prst="smileyFace">
            <a:avLst>
              <a:gd name="adj" fmla="val 92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AUST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7120" y="1000080"/>
            <a:ext cx="84250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bd0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yecto Comenius Flowerpower (FL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etende analizar el cambio que se produce en la actitud de los alumno cuando el proceso de enseñanza-aprendizaje se realiza fuera del aula. Aprender fuera del aula utilizando todos los sent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 basa en tener un mayor contacto con la naturalza, utilizando los cuatro elementos: agua, tierra, aire y fue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almente se formula un cuestionario para saber si se produce un cambio en su actitud cuendo el alumno está fuera del cent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fecta  a los niveles: Jardín de Infancia, Primaria y Secunda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ises participantes: Chequia, Hungria, Rumanía, Turquía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tria.      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dioma: Inglé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bd0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fesor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 papel está visto como acompañante del alum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señanza basada en el dialogo y apoyo individ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l desarrollo de la creatividad por medio de pedagogía teatral  y JEUX DRAMATIQUES  tienen un papel muy importante en los procesos de aprendiza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CHIPR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1428840"/>
            <a:ext cx="8786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ACCIONES AL MÁS ALTO NI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Apoyo a la investigación desde la infancia hasta la Univers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Desarrollo de herramientas de diagnóstico que permitan identificar los individuos creado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Fortalecimiento de la investigación que favorezca el desarrollo de métodos y prácticas educativas que apoyen, promuevan y desarrollen la creatividad en las diferentes edad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ENTROS EDUCA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Aplicación de la creatividad en el au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Día de la creatividad y exposiciones a nivel escolar y nacion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ción de la labor innovadora de los estudiantes en gener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ción de los programas de aprendizaje perman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junción entre escuela y empresa y apertura a investigadores y creadores de reconocido prestig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Utilizar la multiculturalidad de las aulas y en las aul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Las materias programan acciones encaminadas a mejorar el aprendizaje creativo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Verdana"/>
                <a:ea typeface="Verdana"/>
              </a:rPr>
              <a:t>Mas informa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Verdana"/>
                <a:ea typeface="Verdana"/>
              </a:rPr>
              <a:t>www.moec.gov.cy/2009_dimiourgikotita_kainotomia/index.ht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7 Diagrama" descr=""/>
          <p:cNvPicPr/>
          <p:nvPr/>
        </p:nvPicPr>
        <p:blipFill>
          <a:blip r:embed="rId2"/>
          <a:stretch/>
        </p:blipFill>
        <p:spPr>
          <a:xfrm>
            <a:off x="1279440" y="1481040"/>
            <a:ext cx="610884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ESPAÑA</a:t>
            </a:r>
            <a:br>
              <a:rPr sz="4800"/>
            </a:b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CA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428760" y="1571760"/>
            <a:ext cx="8424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f6fc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yecto Europe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 Interculturalidad: El corazón de las escuelas europeas.  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Duració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2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aises participant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Escocia, Chipre, Letonia y Españ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Reforzar la dimensión europea en la enseñanza y compartir experiencias y métodos encaminados a fomentar la inclusión y la diversidad cultural entre el alum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cedimien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* Mediante el intercambio de actividades sobre literatura y métodos para promover valores comunes con los países participant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Intercambio de profesores y alumnos para compatir actividades comu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yec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  Intercambio de alumnos entre España y Alema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www.iesmesaylopez.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MURC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68360" y="1571760"/>
            <a:ext cx="842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4617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yecto de I+D-I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sado en un sistema digital de almacenamiento de programaciones por internet. Se estudia el grado de avance en las desviaciones, sus modificaciones y  logros, unificación de contenidos y su seguimiento y contr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ión del conocimento profesional docente: Compartir en este programa todos los materiales que tenem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gramaciones con un hipervínculo que nos traslada a los materiales que se pueden utilizar en la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ión de instrumentos de medir los objetivos plante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ticipa: IES LA FLOTA-UNIVERSIDAD (Facultades de Informàtica y Edu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lazo de presentación: Fina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www.ieslaflota.es(calidad@ieslaflota.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4:23:45Z</dcterms:created>
  <dc:creator>Sauter</dc:creator>
  <dc:description/>
  <dc:language>en-US</dc:language>
  <cp:lastModifiedBy>Valued Acer Customer</cp:lastModifiedBy>
  <dcterms:modified xsi:type="dcterms:W3CDTF">2009-05-08T06:32:59Z</dcterms:modified>
  <cp:revision>92</cp:revision>
  <dc:subject/>
  <dc:title>CREATIVIDAD E INNOVACIÓN: RETOS DE FUTURO</dc:title>
</cp:coreProperties>
</file>