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e.int/" TargetMode="External"/><Relationship Id="rId3" Type="http://schemas.openxmlformats.org/officeDocument/2006/relationships/hyperlink" Target="http://www.ecml.at/" TargetMode="External"/><Relationship Id="rId4" Type="http://schemas.openxmlformats.org/officeDocument/2006/relationships/hyperlink" Target="http://www.atriumlinguarum.org/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c-montpellier.fr/" TargetMode="External"/><Relationship Id="rId3" Type="http://schemas.openxmlformats.org/officeDocument/2006/relationships/hyperlink" Target="http://www.ac-montpellier.fr/" TargetMode="External"/><Relationship Id="rId4" Type="http://schemas.openxmlformats.org/officeDocument/2006/relationships/hyperlink" Target="http://www.ac-montpellier.fr/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0920" y="4797360"/>
            <a:ext cx="83026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4000" spc="-1" strike="noStrike">
                <a:solidFill>
                  <a:srgbClr val="ffffff"/>
                </a:solidFill>
                <a:latin typeface="Verdana"/>
              </a:rPr>
              <a:t>Seminario Consejo de Europ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68360" y="5661000"/>
            <a:ext cx="822960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Verdana"/>
              </a:rPr>
              <a:t>Creatividad e Innovación: Retos de futuro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1890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</a:rPr>
              <a:t>2.- Tipos de formación del profesorado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Chipre: se puede empezar a dar clase sin ningún tipo de formación profesional. En el momento en que te llaman tienes un año de formación profesional en tu materia 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Francia: un año de formación, tras aprobar la oposición, con presencia en aula. Tras esto se puede matricular en PAF (de forma voluntaria)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Italia: después de la licenciatura, es obligatorio acudir a la universidad a un curso de dos años, con presencia en aula.</a:t>
            </a:r>
            <a:br>
              <a:rPr sz="2800"/>
            </a:b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También existe formación continua, de forma voluntaria y en coordinación con los directores de centro.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1890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</a:rPr>
              <a:t>2.- Tipos de formación del profesorado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España: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CPR: ha mejorado la calidad de los cursos con asesores de todas las asignaturas con fundamentos prácticos. 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Promoción de las lenguas, con intercambios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Dentro de los centros también se autogestiona formación para el profesorado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En Galicia: en las EOI se dan clases de inglés y gallego principalmente para los profesores de primaria y secundaria 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En el País Vasco se da una hora semanal de formación a los profesores, dentro del horario lectivo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</a:rPr>
              <a:t>3.- Materiales y recursos utilizado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Verdana"/>
              </a:rPr>
              <a:t>3.1 Páginas Web: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89120" indent="-33192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Lenguas moderna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-45720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58779"/>
                </a:solidFill>
                <a:uFillTx/>
                <a:latin typeface="Verdana"/>
                <a:hlinkClick r:id="rId2"/>
              </a:rPr>
              <a:t>www.coe.int</a:t>
            </a: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-45720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58779"/>
                </a:solidFill>
                <a:uFillTx/>
                <a:latin typeface="Verdana"/>
                <a:hlinkClick r:id="rId3"/>
              </a:rPr>
              <a:t>www.ecml.at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-45720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58779"/>
                </a:solidFill>
                <a:uFillTx/>
                <a:latin typeface="Verdana"/>
                <a:hlinkClick r:id="rId4"/>
              </a:rPr>
              <a:t>www.atriumlinguarum.org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-45720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www.pilgrims.es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-45720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www.HLTM.uk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1" marL="789120" indent="-33192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Lenguas clásica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-45720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Proyecto Palladium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</a:rPr>
              <a:t>3.- Materiales y recursos utilizado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Verdana"/>
              </a:rPr>
              <a:t>3.1 Páginas Web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89120" indent="-33192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Transversales: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-45720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www.jardunaldiak.net/index_es_1.html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-45720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www.berrikuntza.net 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-45720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www.ac-versailles.fr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-45720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a58779"/>
                </a:solidFill>
                <a:uFillTx/>
                <a:latin typeface="Verdana"/>
                <a:hlinkClick r:id="rId2"/>
              </a:rPr>
              <a:t>www.ac</a:t>
            </a:r>
            <a:r>
              <a:rPr b="0" lang="es-ES" sz="2400" spc="-1" strike="noStrike" u="sng">
                <a:solidFill>
                  <a:srgbClr val="a58779"/>
                </a:solidFill>
                <a:uFillTx/>
                <a:latin typeface="Verdana"/>
                <a:hlinkClick r:id="rId3"/>
              </a:rPr>
              <a:t>-</a:t>
            </a:r>
            <a:r>
              <a:rPr b="0" lang="es-ES" sz="2400" spc="-1" strike="noStrike" u="sng">
                <a:solidFill>
                  <a:srgbClr val="a58779"/>
                </a:solidFill>
                <a:uFillTx/>
                <a:latin typeface="Verdana"/>
                <a:hlinkClick r:id="rId4"/>
              </a:rPr>
              <a:t>montpellier.fr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-45720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www.educarex.es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-45720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www.museoscienza.org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-45720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www.monticelloscuole.vi.it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-45720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www.iisfiore.it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-45720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www.agenciaidea.es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-45720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Recursos cnice (Web del MEC) 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</a:rPr>
              <a:t>3.- Materiales y recursos utilizado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Verdana"/>
              </a:rPr>
              <a:t>3.2 Material impreso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89120" indent="-33192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Marco Común Europeo de Referencia. </a:t>
            </a:r>
            <a:br>
              <a:rPr sz="2800"/>
            </a:br>
            <a:r>
              <a:rPr b="0" i="1" lang="es-ES" sz="2800" spc="-1" strike="noStrike">
                <a:solidFill>
                  <a:srgbClr val="003300"/>
                </a:solidFill>
                <a:latin typeface="Verdana"/>
              </a:rPr>
              <a:t>COE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89120" indent="-33192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Comunidades de aprendizaje. </a:t>
            </a:r>
            <a:br>
              <a:rPr sz="2800"/>
            </a:br>
            <a:r>
              <a:rPr b="0" i="1" lang="es-ES" sz="2800" spc="-1" strike="noStrike">
                <a:solidFill>
                  <a:srgbClr val="003300"/>
                </a:solidFill>
                <a:latin typeface="Verdana"/>
              </a:rPr>
              <a:t>Ramón Flecha, Mª Luisa Jaurssi y otro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89120" indent="-33192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El aprendizaje dialógico.</a:t>
            </a:r>
            <a:br>
              <a:rPr sz="2800"/>
            </a:b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i="1" lang="es-ES" sz="2800" spc="-1" strike="noStrike">
                <a:solidFill>
                  <a:srgbClr val="003300"/>
                </a:solidFill>
                <a:latin typeface="Verdana"/>
              </a:rPr>
              <a:t>Ramón Flecha y otro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89120" indent="-33192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Compartiendo palabras. </a:t>
            </a:r>
            <a:br>
              <a:rPr sz="2800"/>
            </a:br>
            <a:r>
              <a:rPr b="0" i="1" lang="es-ES" sz="2800" spc="-1" strike="noStrike">
                <a:solidFill>
                  <a:srgbClr val="003300"/>
                </a:solidFill>
                <a:latin typeface="Verdana"/>
              </a:rPr>
              <a:t>Ramón Flecha y otro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</a:rPr>
              <a:t>3.- Materiales y recursos utilizado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3.3 Actividades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1" marL="789120" indent="-331920">
              <a:lnSpc>
                <a:spcPct val="80000"/>
              </a:lnSpc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Verdana"/>
              </a:rPr>
              <a:t>Promover el desarrollo de vocabulario y de la descripción a través de la pintura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1" marL="789120" indent="-331920">
              <a:lnSpc>
                <a:spcPct val="80000"/>
              </a:lnSpc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Verdana"/>
              </a:rPr>
              <a:t>Fomentar la creatividad y el uso del idioma a través de fotos de puertas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1" marL="789120" indent="-331920">
              <a:lnSpc>
                <a:spcPct val="80000"/>
              </a:lnSpc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Verdana"/>
              </a:rPr>
              <a:t>Elegir el producto más respetuoso con el medio ambiente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1" marL="789120" indent="-331920">
              <a:lnSpc>
                <a:spcPct val="80000"/>
              </a:lnSpc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Verdana"/>
              </a:rPr>
              <a:t>PI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3.4 Recursos humanos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1" marL="789120" indent="-331920">
              <a:lnSpc>
                <a:spcPct val="80000"/>
              </a:lnSpc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Verdana"/>
              </a:rPr>
              <a:t>Aprovechar personas, de dentro o de fuera del centro, que puedan ser de interés para el aprendizaje: familias, voluntarios, trabajadores del centro, alumnos, etc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1" marL="789120" indent="-331920">
              <a:lnSpc>
                <a:spcPct val="80000"/>
              </a:lnSpc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Verdana"/>
              </a:rPr>
              <a:t>Seminarios de formación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3.5. Recursos materiales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1" marL="789120" indent="-331920">
              <a:lnSpc>
                <a:spcPct val="80000"/>
              </a:lnSpc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Verdana"/>
              </a:rPr>
              <a:t>Dinero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1" marL="789120" indent="-331920">
              <a:lnSpc>
                <a:spcPct val="80000"/>
              </a:lnSpc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Verdana"/>
              </a:rPr>
              <a:t>TIC´s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1" marL="789120" indent="-331920">
              <a:lnSpc>
                <a:spcPct val="80000"/>
              </a:lnSpc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Verdana"/>
              </a:rPr>
              <a:t>Aprovechamiento del entorno: empresas, museos, parques, acontecimientos, fiestas populares, fenómenos naturales, etc.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</a:rPr>
              <a:t>4.- Valoraciones y sugerencia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Verdana"/>
              </a:rPr>
              <a:t>4.1 Valoraciones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89120" indent="-33192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El grupo valora muy positivamente el seminario por: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-45720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Posibilidad de intercambiar experiencias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-45720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Variedad y riqueza 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-45720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Intervenciones de calidad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-45720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Buena organización y puntualidad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-45720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Trato personal 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-45720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Grupo de gran calidad y calidez humana con ganas de aprender y muy receptivo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</a:rPr>
              <a:t>4.- Valoraciones y sugerencia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Verdana"/>
              </a:rPr>
              <a:t>4.2 Sugerencias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89120" indent="-33192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El grupo sugiere que: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-45720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Dar más tiempo para el debate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-45720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Concretizar más en los temas y en las propuestas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-45720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Intercambio con colegas con los que se compartan materias, etapas educativas o centros de interés y para comentar los proyectos que estamos dispuestos a poner en marcha en nuestro centro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535040" indent="-45720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Paridad de género en los coordinadores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</a:rPr>
              <a:t>4.- Valoraciones y sugerencia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912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s-ES" sz="7200" spc="-1" strike="noStrike">
                <a:solidFill>
                  <a:srgbClr val="003300"/>
                </a:solidFill>
                <a:latin typeface="Verdana"/>
              </a:rPr>
              <a:t>QUEREMOS </a:t>
            </a:r>
            <a:endParaRPr b="0" lang="en-US" sz="7200" spc="-1" strike="noStrike">
              <a:solidFill>
                <a:srgbClr val="003300"/>
              </a:solidFill>
              <a:latin typeface="Verdana"/>
            </a:endParaRPr>
          </a:p>
          <a:p>
            <a:pPr lvl="1" marL="78912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003300"/>
                </a:solidFill>
                <a:latin typeface="Verdana"/>
              </a:rPr>
              <a:t>REPETIR</a:t>
            </a:r>
            <a:endParaRPr b="0" lang="en-US" sz="7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</a:rPr>
              <a:t>Grupo 3: Integrantes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523520"/>
            <a:ext cx="8785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Verdana"/>
              </a:rPr>
              <a:t>Annete Nicolau-Evangelou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Verdana"/>
              </a:rPr>
              <a:t>Fanny  Lelievre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Verdana"/>
              </a:rPr>
              <a:t>Maddalena Gatos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Verdana"/>
              </a:rPr>
              <a:t>Mª Ángeles de Vicente Velasco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Verdana"/>
              </a:rPr>
              <a:t>Mª Sol Antolín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Verdana"/>
              </a:rPr>
              <a:t>Javier Vidal Martínez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Verdana"/>
              </a:rPr>
              <a:t>José Luis Dessy Martínez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Verdana"/>
              </a:rPr>
              <a:t>Coordina: José Manuel Neira González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8360" y="1890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</a:rPr>
              <a:t>1.- Iniciativas Innovadoras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Verdana"/>
              </a:rPr>
              <a:t>Chipre: 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Congreso en donde todos los centros presentaban ideas innovadoras en todas las materias: ejemplo, diccionario bilingüe, energía solar. Todos los alumnos pueden presentarse, desde primaria a secundaria. </a:t>
            </a:r>
            <a:br>
              <a:rPr sz="2800"/>
            </a:b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Grupo de trabajo que busca páginas Web de interés para cada disciplina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Observa falta de innovación y creación dentro del aula.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1890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</a:rPr>
              <a:t>1.- Iniciativas Innovadoras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Verdana"/>
              </a:rPr>
              <a:t>Francia: 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Innovación ligada a los recursos disponibles y las TIC´s (en algunas escuelas todos los alumnos tiene un ordenador) </a:t>
            </a:r>
            <a:br>
              <a:rPr sz="2800"/>
            </a:b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Se adelanta el uso y aprendizaje de dos idiomas extranjeros a la edad de 10 años.  </a:t>
            </a:r>
            <a:br>
              <a:rPr sz="2800"/>
            </a:b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Se incluye en el examen de final de estudios de colegio (14 años)una certificación en lengua extranjera (nivel A2) 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1890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</a:rPr>
              <a:t>1.- Iniciativas Innovadoras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Italia: 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Nuevas tecnologías: pizarra digital. Dan formación a los profesores para su utilización</a:t>
            </a:r>
            <a:br>
              <a:rPr sz="2400"/>
            </a:b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Enseñanza experimental de las ciencias: los alumnos se desplazan a institutos especializados para realizar experimentos (repertorio de experimentos para todas las edades)</a:t>
            </a:r>
            <a:br>
              <a:rPr sz="2400"/>
            </a:b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Se puede enseñar ciencias en inglés, con presencia en clase de los profesores de ciencia e ingles.</a:t>
            </a:r>
            <a:br>
              <a:rPr sz="2400"/>
            </a:b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Los alumnos aprenden un segundo idioma a partir de los 11 años; el instituto elige normalmente entre francés, castellano y alemán 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8360" y="1890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</a:rPr>
              <a:t>1.- Iniciativas Innovadoras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Verdana"/>
              </a:rPr>
              <a:t>España: </a:t>
            </a:r>
            <a:br>
              <a:rPr sz="3200"/>
            </a:br>
            <a:r>
              <a:rPr b="0" lang="es-ES" sz="32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Cesión de espacios a grafitero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Digitalización de la biblioteca.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Foros de lectura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En Extremadura: clases bilingües, el inglés desde infanti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TIC´s: ordenadores, pizarras digitales, cañones, etc.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En Extremadura (2003) se crean espacios para la “creación joven”: pintura, películas, etc…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8360" y="1890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</a:rPr>
              <a:t>1.- Iniciativas Innovadoras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Verdana"/>
              </a:rPr>
              <a:t>España: </a:t>
            </a:r>
            <a:br>
              <a:rPr sz="3200"/>
            </a:br>
            <a:r>
              <a:rPr b="0" lang="es-ES" sz="32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Gabinete de iniciativa joven (2004) para  jóvenes emprendedores con el apoyo de unos premios “Imaginar es emprender” 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OEI´s: 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Elaboración de nuevos curriculos siguiendo el marco común europeo de referencia. 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Pruebas unificadas para los alumnos de todas las EOI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1890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</a:rPr>
              <a:t>1.- Iniciativas Innovadoras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Verdana"/>
              </a:rPr>
              <a:t>España: </a:t>
            </a:r>
            <a:br>
              <a:rPr sz="3200"/>
            </a:br>
            <a:r>
              <a:rPr b="0" lang="es-ES" sz="32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Comunidades de aprendizaje: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Tertulias literarias - dialógicas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Tertulias pedagógicas - dialógicas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Formaciones familiares: tertulias con las familias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Dos profesores en aula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Bibliotecas tutorizadas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Grupos interactivos: entrada de voluntarios en aula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1890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</a:rPr>
              <a:t>1.- Iniciativas Innovadoras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Verdana"/>
              </a:rPr>
              <a:t>España: </a:t>
            </a:r>
            <a:br>
              <a:rPr sz="3200"/>
            </a:br>
            <a:r>
              <a:rPr b="0" lang="es-ES" sz="32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Alentar la interacción: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entre alumno y profesorado con diversas actividades de comunicación auténtica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Verdana"/>
              </a:rPr>
              <a:t>con personas del entorno no escolar de los alumnos que complementen su aprendizaje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Actividades sociales: acercamiento de alumnos a colectivos desfavorecidos.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08:46:02Z</dcterms:created>
  <dc:creator>WILLY</dc:creator>
  <dc:description/>
  <cp:keywords/>
  <dc:language>en-US</dc:language>
  <cp:lastModifiedBy>WILLY</cp:lastModifiedBy>
  <dcterms:modified xsi:type="dcterms:W3CDTF">2009-05-07T13:51:06Z</dcterms:modified>
  <cp:revision>10</cp:revision>
  <dc:subject/>
  <dc:title>Restaurante Camaura S.L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93082</vt:lpwstr>
  </property>
</Properties>
</file>