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DEE-2E43-498C-AFFD-7FC117BE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A06-DD05-477F-B9E4-40A3B32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3A9-2301-4C5C-BF00-7EC74171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59E-CC6A-4D5B-94B9-FE345147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1A9-CE8B-414B-A895-DCF4EE7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A83-ECBC-41FB-9226-FD46DDD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DE1-35C5-4E44-838C-30D5B301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676-8948-49DB-85B0-0501F78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1C-34BA-4FFB-929E-92DB210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0C1-0F46-4CEF-B2E1-568BAE2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EBB-7153-4163-950C-505C1AE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E93-C517-4664-A6EC-CFDA9C9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F14-0231-4D63-BB4E-FF2A4E862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turelab.org.com/" TargetMode="External"/><Relationship Id="rId2" Type="http://schemas.openxmlformats.org/officeDocument/2006/relationships/hyperlink" Target="http://www.futurelab.org.com/" TargetMode="External"/><Relationship Id="rId3" Type="http://schemas.openxmlformats.org/officeDocument/2006/relationships/hyperlink" Target="http://www.futurelab.org.com/" TargetMode="External"/><Relationship Id="rId4" Type="http://schemas.openxmlformats.org/officeDocument/2006/relationships/hyperlink" Target="http://www.futurelab.org.com/" TargetMode="External"/><Relationship Id="rId5" Type="http://schemas.openxmlformats.org/officeDocument/2006/relationships/hyperlink" Target="http://www.futurelab.org.com/" TargetMode="External"/><Relationship Id="rId6" Type="http://schemas.openxmlformats.org/officeDocument/2006/relationships/hyperlink" Target="http://www.futurelab.org.com/" TargetMode="External"/><Relationship Id="rId7" Type="http://schemas.openxmlformats.org/officeDocument/2006/relationships/hyperlink" Target="http://www.futurelab.org.com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93640"/>
            <a:ext cx="6553080" cy="557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NOVACIÓN Y CREATIVIDAD EN LA EDUCACIÓN: Entre el presente no satisfactorio y el futuro ambicioso que hay que constru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1295280"/>
            <a:ext cx="3657600" cy="38862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IDAD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2759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5334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36232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106668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133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éntica: conocimiento y habilidades superiores, resultados y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200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ar y comprender progres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9625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” la enseñanza y el aprendizaje, no sólo “del”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105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ción “de” y “con”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457200"/>
            <a:ext cx="731520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SER, EJERCER Y APRENDER LA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002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inguna idea sobre el aprendizaje y la enseñanza escolar será posible sin una idea y desempeño consecuente de la profesión d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71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sumir que la educación es un derecho, no un m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Sostener altas aspiraciones, con realismo crítico sobre cada alumno y su potencial  de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cceder  al  conocimiento, comprensión e interpretación, utilización creativa en tareas y contexto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La profesión se va aprendiendo:  reflexión y crítica, innovación, investigación. Propiciar y atender a la voz de los alumnos es fundamental para ir haciendo mejo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613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Aprender con los colegas: conversación, proyectos, elaboración de materiales, observación, análisis y valoración de práctica y resultad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7524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Conciencia de que las relaciones con los estudiantes son decisivas para ellos y para sí mismos: cuidado, responsabilidad, ayuda, interés, respeto mutuo, escucha, atención especial a los más desaventaj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0"/>
          <a:ext cx="86868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458200" cy="94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ENTROS: De organizaciones burocráticas a comunidades democráticas de aprendizaj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Un lugar donde aprender, no sólo enseñar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OCIMIEN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1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talecer vínculos sociales e intelectual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743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rendizaje activo y situado: tareas auténticas, diseño fundado, basado en evidencias y éticamente orienta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 Sostener actividades de investigación, renovación pedagógica y evalu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INVESTIGACION REFLEXIVA Y CRÍ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iempos, normas y compromisos para acometer tareas conjunta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ahoma"/>
              </a:rPr>
              <a:t>(ESTRUCTURAS Y GOBIERNO PERSONALIZADO Y ACOGEDOR DE LOS CENTR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unidades con polifonía de voces, influencias y responsabilidad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NOVACIÓN COMUNIT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INNOVACIÓN EN POLÍTICAS SOCIALES Y EDUC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ción, un bien común y público, reclama responsabilidad de podere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aldo efectivo a escuelas públicas, liderazgo en activación de prioridades justas y democrá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r condiciones y urgencias para una innovación  y mejora democrática de y en todos los cen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648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innovación no depende de estructuras y legislación, sino de cultura, procesos, construcción de conocimiento: eso no se puede decr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362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609480"/>
            <a:ext cx="1523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ceptos c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0492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Habilidades sup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752480"/>
            <a:ext cx="1295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ver-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04920"/>
            <a:ext cx="1828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1066680"/>
            <a:ext cx="17524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Situaciones auté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219320"/>
            <a:ext cx="1600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ltas aspi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352680"/>
            <a:ext cx="23623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81480"/>
            <a:ext cx="19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m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867280"/>
            <a:ext cx="3581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laciones de apoyo,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334120"/>
            <a:ext cx="2590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ula, comunidad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581280"/>
            <a:ext cx="19051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640080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udadanía 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676520"/>
            <a:ext cx="3124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s 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1828800"/>
            <a:ext cx="5105520" cy="289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EN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CUEL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DUCA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EX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MBIOS PARADÓG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PROBLE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33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ales y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3499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entíficos y 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762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34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íticos e id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1066680"/>
            <a:ext cx="403884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Wide Latin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3505320"/>
            <a:ext cx="281952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581280"/>
            <a:ext cx="373356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CREA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514600"/>
            <a:ext cx="3429000" cy="24382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LO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ÉT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BASTA ACCESO: UNA BUENA EDUCACIÓN COMO DERECHO ESENCIAL DE TODAS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FORMACIONES PROFUNDAS EN LO QUE SE VALORA Y ENSEÑA, APRENDIZAJES ESCOLARES, METODOLOGÍAS, RECURSOS Y RELACIONES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743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ÍTICAS Y PRÁCTICAS EFECTIVAS PARA PERSONA-LIZAR LA EDUCACIÓN CON UNA PRIORIDAD: SACAR EL MÁXIMO POSIBLE DE CADA ALUMNO Y LUCHA CONTRA EL FRA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ANZAS POLÍTICAS, SOCIALES Y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R Y AMPLIAR EL CONOCIMIENTO DISPON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COS PREFERENT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447920"/>
            <a:ext cx="53337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URRÍCULO, ENSEÑANZA Y APRENDIZAJE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276720"/>
            <a:ext cx="51051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495680"/>
            <a:ext cx="4114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ENTROS ESCO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784160" y="3092400"/>
            <a:ext cx="4572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Schoolbook"/>
              </a:rPr>
              <a:t>POLÍTICAS SOCIALES Y EDUCATIVAS PÚBL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76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CULTURA Y CONOCIMIENT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685800"/>
            <a:ext cx="66294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a institución “de” y “para” el conocimiento: culturización discipli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905120"/>
            <a:ext cx="67816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aber organizado, comprensión del mundo, compartir cul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971800"/>
            <a:ext cx="69343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ción, conocimiento y comprensión profunda: menos puede ser más y mej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7238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rigurosos, pero con sentido: superar fragmentación, rigidez y buscar integ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181480"/>
            <a:ext cx="7315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ografías de vida” y relevanci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867280"/>
            <a:ext cx="7391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cognitivos, personales, civismo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304920"/>
            <a:ext cx="7086600" cy="5031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La mayor parte del conocimiento escolar es lo que queremos que los alumnos aprendan, y está bien. Pero puede suceder que no se corresponda con lo que ellos quieren aprender, con sus intereses, ni con lo que valoran como importante” </a:t>
            </a:r>
            <a:r>
              <a:rPr b="1" lang="es-ES" sz="3600" spc="-1" strike="noStrike">
                <a:solidFill>
                  <a:srgbClr val="ffcc00"/>
                </a:solidFill>
                <a:latin typeface="Times New Roman"/>
              </a:rPr>
              <a:t>(Enquiring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715000"/>
            <a:ext cx="5410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uturelab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org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om</a:t>
            </a: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981080"/>
            <a:ext cx="2743200" cy="2057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endizajes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76320"/>
            <a:ext cx="220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acidades cognitivas superiores, desde la comprensión profunda a la resolución de problemas y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93704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BILIDADES PERSONALES Y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cia, fiabilidad, disposición a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bajar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iencia moral y cí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62320" y="1294920"/>
            <a:ext cx="838080" cy="1143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837720"/>
            <a:ext cx="1066680" cy="16002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14800"/>
            <a:ext cx="0" cy="762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5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¿QUÉ SABEMOS SOBRE EL APRENDIZAJE Y EL DESARROLLO DE HABILIDADES COGNITIVAS, PERSONALES Y SO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60020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Activo, relevante y significativo, en contexto, situaciones cotidianas y problemas r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Profundo, reflexivo, indagador, autocontrol (aprender a apre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6576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Sostenido en el tiempo y en todo el 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34340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Compartido, contrastado, conversación con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0292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Valorado, interés, motivador, útil, buen c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791320"/>
            <a:ext cx="73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Diverso, tanto por intereses como por capacidades, apoyo personal, flexibilidad, 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54:05Z</dcterms:created>
  <dc:creator>Juan Manuel Escudero Muñoz</dc:creator>
  <dc:description/>
  <dc:language>en-US</dc:language>
  <cp:lastModifiedBy>Juan Manuel Escudero Muñoz</cp:lastModifiedBy>
  <dcterms:modified xsi:type="dcterms:W3CDTF">2009-05-03T08:39:51Z</dcterms:modified>
  <cp:revision>9</cp:revision>
  <dc:subject/>
  <dc:title>Presentación de PowerPoint</dc:title>
</cp:coreProperties>
</file>