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E7A9-0E24-46C3-9BAD-AB87C6BB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C2DF-AEA7-4EAA-9213-35301911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0ACB-9676-441E-8C00-10EE0884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0136-0F5E-43CC-B858-25FEE2EC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6DFA-430B-445B-9B4D-F028AE15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6DF6-1875-4C2E-90B0-6CD19557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D878-1862-44A0-B669-348FEA19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749B-7AF2-4F3A-970F-CB2E535F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0A2F-443A-4AF5-835F-CC2FFB3F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FBC9-9565-4D20-A59B-EB6988CF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6E7F-7F37-4EB2-9645-57409D5F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A4B7-1A05-43BF-B21C-D0F5CECF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D534-42E9-400B-A48B-FE8F71AD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C22B-064C-4F0C-8AB6-695A3427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F32F-A55A-477D-872E-5C7B9159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003B-5100-4CA5-9C95-9C370847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5FC8-5860-4ED8-A4D4-89BD237A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BDCA1-6C22-412F-832A-31C1E426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3FB68F-87DA-4172-B16C-F35673EC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21B1C1-F75B-471D-9788-6CE8646E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D4A2B-9441-47E4-BA7C-0EA9EB3B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FC81A-F2A9-47A9-BF8F-B6B90735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22EE-F513-4152-ABFE-16BC5694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A8D553-AC74-453F-81C9-6B7D102D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2452F1-BF37-4270-A821-A4F9FA94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A4E349-0153-43C8-9A27-C5804E7F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7672E-C01A-48C3-A9DC-526F0A48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C70D3-6F2F-4A5C-833B-3E940ED4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7A4359-9316-4DF0-8076-F8DFB403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DF5B35-DFAA-4DF2-B219-A85D753F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5C0B7-F5F0-4CB3-AD1F-7BE6C23E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5219B-7C10-4A6F-BA4B-ACD4DC33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152F2-1929-4C9E-88DD-3587F5E8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8D2-1FE0-4085-982B-295FB419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E7004-00FE-47AD-9B34-126BAA62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96CB1-26C1-4C46-9CC5-7A66C2C5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224C4-64FA-4F85-9FD9-1744BCA1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6285B-ED39-45AB-9225-A06D9ECE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6D582-EA91-432F-A4B1-ED389890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29DF4-5AED-453F-9BB6-60A45983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ED93B-57EB-4AF0-8450-41A08544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3A917-B440-4D17-96F4-61946D0B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37AC1-16FD-4E53-9498-4C782C87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D753C6-94B1-4DDA-A7CB-E0561984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960B-94B7-43C7-BC5A-D541813B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D3285E-8EC2-4CED-B6D3-6D990D81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38C7E3-E021-48B9-8E65-DB2ADC0E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212826-572F-4F30-B820-36073A8A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13B4F4-ED5D-4C79-B0EA-7B7CA6E8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3FF4F7-2AFC-4F78-91C1-C3A1FFA0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253BD3-56C4-4821-B6DD-3BDC1F64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57D518-145D-43FA-A2BE-15DA5359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14466F-A511-4830-955E-6850169E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88E0A0-8042-4F71-A72D-9C5BD84B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21777E-6C9E-4978-AB01-113D6145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8DBE-E2B8-4986-8A31-7142023D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EFF8C8-192D-47E8-A918-520DECD4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0AA00E-9687-41D8-AEF7-0D7A571A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E34F6B-0864-49FA-BE76-F8A499EB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904B5B-8A1E-4F14-957B-934C3757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138A8F-D3F4-4946-AF6A-7F52DA87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7A4EE9-9CC5-4BBF-9AF6-6B63C562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ABB992-F5D1-4E80-AAEE-1ED7953B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AAA5A0-711D-4DBF-9990-9E054127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00DBEC-16DD-4B20-A619-4B79BBA2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29F840-3CF8-40DF-9AA2-30A1EB4C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A810-D1E8-42C1-AA76-8EAFA627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16BFDA-FDC7-42EA-AE9A-0FD4A5F3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132ADA-9EA2-4E4E-ADAD-137B2B5E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2915B2-5333-43AC-85D2-10D4B70E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CB0FBD-C267-4E43-A3FD-5AD26318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72766C-8A92-44E4-9A6A-1F10DBBF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922A37-FC93-4EF9-B15C-325466DC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0EF2F3-FEAE-4C48-9B1F-88B8BEC3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D68F81-2E3E-4126-A338-7BE905A3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07C8F0-7B3E-44E6-9205-AC81841C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684F21-FE45-451E-AE0D-1E47172C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2812-361B-4D4C-A1C6-B1EE7ADB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917858-7D7F-479A-BFF3-C2876B20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BD6190-C268-4700-AC68-07206EFA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223913-4425-433B-A666-2B58A5CA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DEC522-F4AA-4659-8DAE-773352E9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2D38DA-09F9-4A52-B3AD-241700CB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2BA7-6895-4724-A5B3-9CC08FC8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F9EE-ED8E-4631-8DB0-45047125757A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A4F3-88F3-4FED-8C93-5A54D264DBB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FF93-9CE6-4347-B752-DBDE0FE246DD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2596-3E33-4C6C-8F94-E57C37C9E9F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A30F-6008-4330-8B86-9AC671358420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CDE1-DF21-49D3-9F3E-856C74AF3C6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6D85-F6A7-4992-8E5D-147B702D9F50}" type="datetime">
              <a:rPr b="0" lang="es-ES" sz="1200" spc="-1" strike="noStrike">
                <a:solidFill>
                  <a:srgbClr val="fff39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7F51-1AB0-4D23-83DC-F30135CE0A9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8F78-61F9-4CEC-BCCB-1AF1ECDCFC00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2F57-4760-4E43-B175-FC9A3BCF454C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7854-923C-46E6-BD22-EB7076BE422C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F74C-E6F5-4FF0-8131-824F823E069F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C8B4-DEBE-4F47-AC1D-2F02526B389F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E563-FB38-4BC3-A340-80E8AE4B9E2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INNOVACIÓN DIDÁCTICA Y CAMBIOS EDUCATIVOS EN ESPAÑA. </a:t>
            </a:r>
            <a:br>
              <a:rPr sz="3000"/>
            </a:b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EL PROYECTO GEA-CLÍO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714480" y="4714920"/>
            <a:ext cx="38574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ristina Sapiñ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an Sebastián 200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58F8-9486-4A83-BC75-EFDB8FB9090E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6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75f6d"/>
                </a:solidFill>
                <a:latin typeface="Century Schoolbook"/>
              </a:rPr>
              <a:t>4.-LOS CONDICIONANTES LEGALES: LOGSE, LOCE, LOE (2000-05)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ifundir el proyecto entre otros profes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adaptarse a las normativas leg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Fue el germen de los cuatro libros (en sus ediciones en castellano y valenciano) de Ciencias Sociales, geografía e historia que se editan por Nau Llibres a partir de 2002 y fueron sometidos a su revisión y nueva edición en el año 2005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A2BD-6F5A-4232-9509-AB0622C95C5E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D75A-9905-45CD-93A9-234DAC37719C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portada llibre nau 1 sense ed"/>
          <p:cNvPicPr/>
          <p:nvPr/>
        </p:nvPicPr>
        <p:blipFill>
          <a:blip r:embed="rId1"/>
          <a:stretch/>
        </p:blipFill>
        <p:spPr>
          <a:xfrm>
            <a:off x="428760" y="214200"/>
            <a:ext cx="2428920" cy="30481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portada llibre nau sense ed2"/>
          <p:cNvPicPr/>
          <p:nvPr/>
        </p:nvPicPr>
        <p:blipFill>
          <a:blip r:embed="rId2"/>
          <a:stretch/>
        </p:blipFill>
        <p:spPr>
          <a:xfrm>
            <a:off x="3214800" y="214200"/>
            <a:ext cx="2428920" cy="3048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portada nau 3 sense ed"/>
          <p:cNvPicPr/>
          <p:nvPr/>
        </p:nvPicPr>
        <p:blipFill>
          <a:blip r:embed="rId3"/>
          <a:stretch/>
        </p:blipFill>
        <p:spPr>
          <a:xfrm>
            <a:off x="5857920" y="214200"/>
            <a:ext cx="2357280" cy="28558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Gea8"/>
          <p:cNvPicPr/>
          <p:nvPr/>
        </p:nvPicPr>
        <p:blipFill>
          <a:blip r:embed="rId4"/>
          <a:stretch/>
        </p:blipFill>
        <p:spPr>
          <a:xfrm>
            <a:off x="5143680" y="3500280"/>
            <a:ext cx="2674800" cy="31435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Gea9"/>
          <p:cNvPicPr/>
          <p:nvPr/>
        </p:nvPicPr>
        <p:blipFill>
          <a:blip r:embed="rId5"/>
          <a:stretch/>
        </p:blipFill>
        <p:spPr>
          <a:xfrm>
            <a:off x="1500120" y="3286080"/>
            <a:ext cx="3463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" sz="3200" spc="-1" strike="noStrike">
                <a:solidFill>
                  <a:srgbClr val="575f6d"/>
                </a:solidFill>
                <a:latin typeface="Century Schoolbook"/>
              </a:rPr>
              <a:t>5.- LA SITUACIÓN ACTUAL: EL ESPACIO PÚBLICO Y LA REVISIÓN DE LOS MATERIALE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Formación del profesor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ctividades de difusión cul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ctividades con FAP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vestig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euniones mensuales de los integrantes del gru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1EDA-2DF1-4EE9-8A8B-E0681F16470D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LOS DIFICULTADES DE LA INNOVACIÓN EN LOS MATERIA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.-Los materiales se hacen pensando en un contexto. ¿Es posible generalizarl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.-Los materiales implican un cambio de cultura docente ¿Formación en re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3.-Los materiales se difunden con trabas en el mercado ¿Institucione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4.-Los materiales deben ser evaluados constantemente ¿Reeditarl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AACD-86CC-411B-8692-49E8DEA24DBB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1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4B91-D8A0-4956-88DE-C1E2A8A1B28D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2 Rectángulo"/>
          <p:cNvSpPr/>
          <p:nvPr/>
        </p:nvSpPr>
        <p:spPr>
          <a:xfrm>
            <a:off x="1071720" y="1714680"/>
            <a:ext cx="6929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tilidad del saber social para comprender el mundo en que viv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acilitar el aprendizaje de las personas desde estrategias de enseñanza vál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tenciar la actitud de autonomía responsable del profeso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3 CuadroTexto"/>
          <p:cNvSpPr/>
          <p:nvPr/>
        </p:nvSpPr>
        <p:spPr>
          <a:xfrm>
            <a:off x="1799640" y="928800"/>
            <a:ext cx="48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res principios bás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14752"/>
                </a:solidFill>
                <a:latin typeface="Century Schoolbook"/>
              </a:rPr>
              <a:t>ORIGEN Y EVOLUCIÓN DEL GRUPO GEA-CLÍ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Una hipótesis inicial: 1985-1990. Los principios básicos del proyec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formación de personas y grupos: 1991-1994. El apoyo de los CEP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construcción de un proyecto editorial (1995-2000): La Na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 debate sobre los condicionantes legales: LOGSE, LOCE, LOE (2000-05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situación actual: el espacio público y la revisión de los materiales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7CCB-B1FF-4626-B5DB-58DFA3200516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75f6d"/>
                </a:solidFill>
                <a:latin typeface="Century Schoolbook"/>
              </a:rPr>
              <a:t>LAS TESIS QUE APOYAN LA CONCEPCIÓN DE GEA-CLÍO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9284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a)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Los grupos de trabajo pueden experimentar y reflexionar en relación con las unidades didáctica siempre que exista </a:t>
            </a: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un soporte de proyecto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b)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Las difusiones de las innovaciones didácticas son </a:t>
            </a: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interpersonales e informales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. Se necesita adaptar los principios genéricos a los contextos de cada centro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c)Los proyectos curriculares determinan un modelo de formación del profesorado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y el papel de éste como agente social en la educación de las persona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d)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En un proyecto innovador para la autonomía intelectual es preciso contar con las </a:t>
            </a: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ideas cotidianas de los alumnos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. Conocer éstas es un reto de investigación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e)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La cultura de los grupos de trabajo permite evaluar los proyectos y abordar </a:t>
            </a: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problemas relevantes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dentro del marco escolar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FF7B-3EA0-4E69-A888-8EFD36FE8D76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57760" y="1643040"/>
            <a:ext cx="48290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575f6d"/>
                </a:solidFill>
                <a:latin typeface="Century Schoolbook"/>
              </a:rPr>
              <a:t>- CONFECCIÓN DE MATERIALES DIDÁCTICOS</a:t>
            </a:r>
            <a:br>
              <a:rPr sz="2500"/>
            </a:br>
            <a:br>
              <a:rPr sz="2500"/>
            </a:br>
            <a:r>
              <a:rPr b="0" lang="es-ES" sz="2500" spc="-1" strike="noStrike">
                <a:solidFill>
                  <a:srgbClr val="575f6d"/>
                </a:solidFill>
                <a:latin typeface="Century Schoolbook"/>
              </a:rPr>
              <a:t>- INCORPORAN PROBLEMAS SOCIALES RELEVANTES DEL PRESENTE                          </a:t>
            </a:r>
            <a:br>
              <a:rPr sz="2500"/>
            </a:br>
            <a:br>
              <a:rPr sz="2500"/>
            </a:br>
            <a:r>
              <a:rPr b="0" lang="es-ES" sz="2500" spc="-1" strike="noStrike">
                <a:solidFill>
                  <a:srgbClr val="575f6d"/>
                </a:solidFill>
                <a:latin typeface="Century Schoolbook"/>
              </a:rPr>
              <a:t>- ANALIZADOS DESDE LA PERSPECTIVA DISCIPLINAR DE LA GEOGRAFÍA</a:t>
            </a:r>
            <a:br>
              <a:rPr sz="2500"/>
            </a:br>
            <a:br>
              <a:rPr sz="2500"/>
            </a:br>
            <a:r>
              <a:rPr b="0" lang="es-ES" sz="2500" spc="-1" strike="noStrike">
                <a:solidFill>
                  <a:srgbClr val="575f6d"/>
                </a:solidFill>
                <a:latin typeface="Century Schoolbook"/>
              </a:rPr>
              <a:t>- ORGANIZADOS EN TORNO AL CONSTRUCTIVISMO COMO METODOLOGÍA DE TRABAJO EN EL AULA.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1" name="Picture 4" descr="gea2"/>
          <p:cNvPicPr/>
          <p:nvPr/>
        </p:nvPicPr>
        <p:blipFill>
          <a:blip r:embed="rId1"/>
          <a:stretch/>
        </p:blipFill>
        <p:spPr>
          <a:xfrm>
            <a:off x="571680" y="1643040"/>
            <a:ext cx="2828880" cy="4357800"/>
          </a:xfrm>
          <a:prstGeom prst="rect">
            <a:avLst/>
          </a:prstGeom>
          <a:ln w="0">
            <a:noFill/>
          </a:ln>
        </p:spPr>
      </p:pic>
      <p:sp>
        <p:nvSpPr>
          <p:cNvPr id="362" name="6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820A-F2D3-4B4E-87FC-5EA0BEFA0D59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1 Título"/>
          <p:cNvSpPr/>
          <p:nvPr/>
        </p:nvSpPr>
        <p:spPr>
          <a:xfrm>
            <a:off x="500040" y="285840"/>
            <a:ext cx="81867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1.- Una hipótesis inicial: 1985-1990. Los principios básicos del proye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2900" spc="-1" strike="noStrike">
                <a:solidFill>
                  <a:srgbClr val="575f6d"/>
                </a:solidFill>
                <a:latin typeface="Century Schoolbook"/>
              </a:rPr>
              <a:t>2.- LA FORMACIÓN DE PERSONAS Y GRUPOS: 1991-1994. EL APOYO DE LOS CEPS</a:t>
            </a: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solidación del gru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áxima difusión a través de Jornadas, cursos de formación en diferentes lugares de España, encuentro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reación de grupos en Alicante, Segorbe, Vigo, Santia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laboración con la Universidad de Valencia  y en otras universidades, especialmente en Lisbo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aboración de un proyecto de investigación e innovación en 1995, subvencionado por el CIDE ( 13 asesorías del CEP de Valencia y 113 personas organizadas en catorce equipos de trabajo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B5C7-D1C6-42B6-976A-EBDF78F42BE6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75f6d"/>
                </a:solidFill>
                <a:latin typeface="Century Schoolbook"/>
              </a:rPr>
              <a:t>3.- LA CONSTRUCCIÓN DE UN PROYECTO EDITORIAL (1995-2000): LA NAU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yecto editorial,  fruto del trabajo del CIDE, que abarca la mayor parte de los niveles de ESO y Bachillerato, y que incorpora, de forma decidida la visión de la historia a la perspectiva geográfica inici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oble objetivo: mantener la cohesión del grupo y resistir el retroceso contrarreformist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tegración en 1998 en Fedicaria, una federación de grupos de innovación educativa que se constituye en 1995. y cuenta con la revista Con-ciencia Social en 1997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1A19-797F-4E0C-ABB3-C76A05BCD530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1" name="Picture 4" descr="gea 3"/>
          <p:cNvPicPr/>
          <p:nvPr/>
        </p:nvPicPr>
        <p:blipFill>
          <a:blip r:embed="rId1"/>
          <a:stretch/>
        </p:blipFill>
        <p:spPr>
          <a:xfrm>
            <a:off x="1357200" y="0"/>
            <a:ext cx="6858000" cy="6240600"/>
          </a:xfrm>
          <a:prstGeom prst="rect">
            <a:avLst/>
          </a:prstGeom>
          <a:ln w="0">
            <a:noFill/>
          </a:ln>
        </p:spPr>
      </p:pic>
      <p:sp>
        <p:nvSpPr>
          <p:cNvPr id="372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D2B0-EC21-4CF1-A765-444E856DA0D2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54EC-5F8E-4EE4-859B-A4B7B8B050EE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gea 4"/>
          <p:cNvPicPr/>
          <p:nvPr/>
        </p:nvPicPr>
        <p:blipFill>
          <a:blip r:embed="rId1"/>
          <a:stretch/>
        </p:blipFill>
        <p:spPr>
          <a:xfrm>
            <a:off x="1500120" y="428760"/>
            <a:ext cx="66438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9423-BB3A-4819-A7FE-283E764A923A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5" descr="gea5"/>
          <p:cNvPicPr/>
          <p:nvPr/>
        </p:nvPicPr>
        <p:blipFill>
          <a:blip r:embed="rId1"/>
          <a:stretch/>
        </p:blipFill>
        <p:spPr>
          <a:xfrm>
            <a:off x="3000240" y="285840"/>
            <a:ext cx="5429520" cy="5786280"/>
          </a:xfrm>
          <a:prstGeom prst="rect">
            <a:avLst/>
          </a:prstGeom>
          <a:ln w="0">
            <a:noFill/>
          </a:ln>
        </p:spPr>
      </p:pic>
      <p:sp>
        <p:nvSpPr>
          <p:cNvPr id="377" name="5 CuadroTexto"/>
          <p:cNvSpPr/>
          <p:nvPr/>
        </p:nvSpPr>
        <p:spPr>
          <a:xfrm>
            <a:off x="857160" y="1143000"/>
            <a:ext cx="1928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uias didac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ualización cienti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rategias y recursos para el profe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mplos de los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9:32:09Z</dcterms:created>
  <dc:creator>Cristina</dc:creator>
  <dc:description/>
  <dc:language>en-US</dc:language>
  <cp:lastModifiedBy>Cristina</cp:lastModifiedBy>
  <dcterms:modified xsi:type="dcterms:W3CDTF">2009-05-05T22:28:38Z</dcterms:modified>
  <cp:revision>59</cp:revision>
  <dc:subject/>
  <dc:title>Diapositiva 1</dc:title>
</cp:coreProperties>
</file>